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5716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491-EFFA-4513-896A-221EA020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5FC-4CDA-4F1C-AE34-24D02B68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116E-0B62-4B35-8B4E-0E642BFE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128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128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A98-42D2-449A-B77C-462C5007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9ED5-4049-4F91-B4C6-51D09B3F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12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1632-45B6-47D7-9783-2F0E0911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17F4-D1E6-4726-A4CF-8E72E9ED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128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3EED-819A-44D4-8830-EDE075E5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8081-1755-4E79-B345-3B6B5107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5871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716F-110D-4A8E-A57D-7AFE6B8C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128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4AC5-00B3-41B7-B930-FA116837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12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80F-5950-4267-ADCC-F0EF55F8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7F20-1C0B-4CC6-AB50-4A14E568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C5CD-08BA-48CA-BC0E-CDBED2D1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7663-9117-4BF7-BCDD-F593CEA6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E527-966B-49BC-845E-61E361DD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128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128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37EE-BCFF-4703-8F14-00352D09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F30C1-B951-49FF-93E2-B5FCD747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12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D0654-C411-4FCC-A521-56AC6914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D8E6E-296A-4032-9889-CF76537B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128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E6810-2371-4CB5-B524-5A18FD9A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1BDB2-12EE-4A34-A86E-8B233517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7F7-640C-4F99-9F94-F173B3C1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5871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5342D-1A38-4891-93A5-BD6A86DF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128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31D70-1220-4658-9741-49F66B00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F1823-C1CC-4D6C-B8A6-2DD7F69A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5E97F-A324-43A2-9E6F-69DB41A3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32C21-7F1A-4F15-95EA-17DA5B4B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BE53B-6769-41DC-ADC9-1A401CD2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128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128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EA95B-81F0-42F8-8A40-0F8B58E4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76856-C8EF-445D-92DE-564F8556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12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B7014-7571-4CA3-A626-EA671727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83B9C-F577-49C5-BA6F-CB6A1507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128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924A-48D1-4C7C-97A3-541D5C44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128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F4163-BAF6-4138-A873-42447DD5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11083-570A-43CC-890F-8A222659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5871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96876-A23D-40E9-AD47-D1CC0AD2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128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01DE9-E5BD-4CED-A7B1-B7302DE2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D1A1C-B1D4-4557-A02F-2D67D1B9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98BA4-9B78-41F8-A006-6AC17B01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EE829-0A60-4763-B8BB-606EA951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0693D-71B2-4871-BE11-7D3FBD9B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128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128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8209D-8813-48C6-A161-AA876B44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08A-75A4-441D-B2DA-D083608E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871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F3FB-9945-42EA-AA71-0E724365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128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9EB-A759-4971-B4B5-37CFF8CC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07F4-5DB7-4C15-8EA2-A8221D89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12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B9B-96E6-4FCD-8706-84734AA3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6480"/>
            <a:ext cx="9162720" cy="86832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6480"/>
            <a:ext cx="4762440" cy="532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12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5297040"/>
            <a:ext cx="3353040" cy="3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5297040"/>
            <a:ext cx="762120" cy="3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9D50-F05B-47AD-9364-8C9CEE5D0A8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168120"/>
            <a:ext cx="9181080" cy="541440"/>
            <a:chOff x="-19080" y="168120"/>
            <a:chExt cx="9181080" cy="54144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168120"/>
              <a:ext cx="9163080" cy="541440"/>
              <a:chOff x="-19080" y="168120"/>
              <a:chExt cx="9163080" cy="54144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4320" y="168120"/>
                <a:ext cx="914832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21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2960" y="202320"/>
              <a:ext cx="9174960" cy="475920"/>
              <a:chOff x="-12960" y="202320"/>
              <a:chExt cx="9174960" cy="47592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" y="202320"/>
                <a:ext cx="9161640" cy="47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2600" y="4561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6480"/>
            <a:ext cx="9162720" cy="86832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6480"/>
            <a:ext cx="4762440" cy="532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168120"/>
            <a:ext cx="9181080" cy="541440"/>
            <a:chOff x="-19080" y="168120"/>
            <a:chExt cx="9181080" cy="54144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168120"/>
              <a:ext cx="9163080" cy="541440"/>
              <a:chOff x="-19080" y="168120"/>
              <a:chExt cx="9163080" cy="54144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4320" y="168120"/>
                <a:ext cx="914832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21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2960" y="202320"/>
              <a:ext cx="9174960" cy="475920"/>
              <a:chOff x="-12960" y="202320"/>
              <a:chExt cx="9174960" cy="47592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" y="202320"/>
                <a:ext cx="9161640" cy="47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2600" y="4561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12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5297040"/>
            <a:ext cx="3353040" cy="3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5297040"/>
            <a:ext cx="762120" cy="3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5E12-F2FD-4A8A-9A94-BF94771BE2B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6480"/>
            <a:ext cx="9162720" cy="86832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6480"/>
            <a:ext cx="4762440" cy="532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168120"/>
            <a:ext cx="9181080" cy="541440"/>
            <a:chOff x="-19080" y="168120"/>
            <a:chExt cx="9181080" cy="54144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168120"/>
              <a:ext cx="9163080" cy="541440"/>
              <a:chOff x="-19080" y="168120"/>
              <a:chExt cx="9163080" cy="54144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4320" y="168120"/>
                <a:ext cx="914832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21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2960" y="202320"/>
              <a:ext cx="9174960" cy="475920"/>
              <a:chOff x="-12960" y="202320"/>
              <a:chExt cx="9174960" cy="47592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" y="202320"/>
                <a:ext cx="9161640" cy="47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2600" y="4561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12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5297040"/>
            <a:ext cx="3353040" cy="3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5297040"/>
            <a:ext cx="762120" cy="3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67B1-B34F-44E0-8824-51601C2A1D3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120" y="923400"/>
            <a:ext cx="5257800" cy="34290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4240" y="4466520"/>
            <a:ext cx="155520" cy="12888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4846320"/>
            <a:ext cx="9162720" cy="86832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5182560"/>
            <a:ext cx="4762440" cy="53172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12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5297040"/>
            <a:ext cx="3353040" cy="3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5297040"/>
            <a:ext cx="609480" cy="3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6F2F-08EE-46D2-B949-C2B86CF1D5B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33200" y="208080"/>
            <a:ext cx="8864640" cy="1644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Users\Администратор\Desktop\профессии\cbf9240b392d6dfc60f3e0ffe9164fed.jpg"/>
          <p:cNvPicPr/>
          <p:nvPr/>
        </p:nvPicPr>
        <p:blipFill>
          <a:blip r:embed="rId2"/>
          <a:stretch/>
        </p:blipFill>
        <p:spPr>
          <a:xfrm>
            <a:off x="1785960" y="2357280"/>
            <a:ext cx="5000760" cy="31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нкурс «Ребусы»        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-я команд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Рисунок 7" descr="Ребусы про профессии"/>
          <p:cNvPicPr/>
          <p:nvPr/>
        </p:nvPicPr>
        <p:blipFill>
          <a:blip r:embed="rId1"/>
          <a:stretch/>
        </p:blipFill>
        <p:spPr>
          <a:xfrm>
            <a:off x="4786200" y="2214720"/>
            <a:ext cx="4191120" cy="31478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877920" y="1627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6" descr="Ребус"/>
          <p:cNvPicPr/>
          <p:nvPr/>
        </p:nvPicPr>
        <p:blipFill>
          <a:blip r:embed="rId2"/>
          <a:srcRect l="0" t="0" r="9152" b="6914"/>
          <a:stretch/>
        </p:blipFill>
        <p:spPr>
          <a:xfrm>
            <a:off x="285840" y="2286000"/>
            <a:ext cx="3571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99680" y="1142640"/>
            <a:ext cx="81867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-я коман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Рисунок 4" descr="C:\Users\user\Desktop\Снимок.PNG"/>
          <p:cNvPicPr/>
          <p:nvPr/>
        </p:nvPicPr>
        <p:blipFill>
          <a:blip r:embed="rId1"/>
          <a:stretch/>
        </p:blipFill>
        <p:spPr>
          <a:xfrm>
            <a:off x="4643280" y="1714680"/>
            <a:ext cx="4143600" cy="30733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5" descr="Ребус"/>
          <p:cNvPicPr/>
          <p:nvPr/>
        </p:nvPicPr>
        <p:blipFill>
          <a:blip r:embed="rId2"/>
          <a:srcRect l="0" t="0" r="4927" b="0"/>
          <a:stretch/>
        </p:blipFill>
        <p:spPr>
          <a:xfrm>
            <a:off x="214200" y="1714680"/>
            <a:ext cx="342900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643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</a:t>
            </a:r>
            <a:br>
              <a:rPr sz="5000"/>
            </a:b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онкурс «Пазлы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</a:t>
            </a:r>
            <a:r>
              <a:rPr b="0" lang="ru-RU" sz="5000" spc="-1" strike="noStrike" u="sng">
                <a:solidFill>
                  <a:srgbClr val="04617b"/>
                </a:solidFill>
                <a:uFillTx/>
                <a:latin typeface="Calibri"/>
              </a:rPr>
              <a:t>Конкурс «Пазл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12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2" descr="I:\Shool_2\Puzzle\Devises_puzzl_mix\Pic_mix01_print.jpg"/>
          <p:cNvPicPr/>
          <p:nvPr/>
        </p:nvPicPr>
        <p:blipFill>
          <a:blip r:embed="rId1"/>
          <a:stretch/>
        </p:blipFill>
        <p:spPr>
          <a:xfrm>
            <a:off x="500040" y="14400"/>
            <a:ext cx="8143920" cy="5700600"/>
          </a:xfrm>
          <a:prstGeom prst="rect">
            <a:avLst/>
          </a:prstGeom>
          <a:ln w="38160">
            <a:solidFill>
              <a:srgbClr val="03495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Содержимое 3" descr="http://pedsovet.su/_ld/497/35129246.jpg"/>
          <p:cNvPicPr/>
          <p:nvPr/>
        </p:nvPicPr>
        <p:blipFill>
          <a:blip r:embed="rId1"/>
          <a:stretch/>
        </p:blipFill>
        <p:spPr>
          <a:xfrm>
            <a:off x="0" y="0"/>
            <a:ext cx="9001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214200" y="357120"/>
            <a:ext cx="864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 Black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 Black"/>
              </a:rPr>
              <a:t>ЖЕЛАЕМ ВСЕМ УСПЕХ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 Black"/>
              </a:rPr>
              <a:t>В УЧЁБЕ И ТРУД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109440" y="-2017800"/>
            <a:ext cx="91314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7"/>
          <p:cNvSpPr/>
          <p:nvPr/>
        </p:nvSpPr>
        <p:spPr>
          <a:xfrm>
            <a:off x="0" y="0"/>
            <a:ext cx="9144000" cy="2643120"/>
          </a:xfrm>
          <a:prstGeom prst="rect">
            <a:avLst/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Конкурс«Кто что делает?»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1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https://im0-tub-ru.yandex.net/i?id=7814b47196041388c19b8fa72cd3893f-l&amp;n=13"/>
          <p:cNvPicPr/>
          <p:nvPr/>
        </p:nvPicPr>
        <p:blipFill>
          <a:blip r:embed="rId1"/>
          <a:stretch/>
        </p:blipFill>
        <p:spPr>
          <a:xfrm>
            <a:off x="808200" y="642960"/>
            <a:ext cx="72640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450720" y="579600"/>
            <a:ext cx="8321760" cy="968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https://im0-tub-ru.yandex.net/i?id=6e96a7979d26f5d84808a142648f24e0&amp;n=33&amp;h=215&amp;w=323"/>
          <p:cNvPicPr/>
          <p:nvPr/>
        </p:nvPicPr>
        <p:blipFill>
          <a:blip r:embed="rId2"/>
          <a:stretch/>
        </p:blipFill>
        <p:spPr>
          <a:xfrm>
            <a:off x="0" y="142920"/>
            <a:ext cx="4357800" cy="3259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https://im0-tub-ru.yandex.net/i?id=2b4a0848f65bc0d76fc1638dc48d0054&amp;n=33&amp;h=215&amp;w=323"/>
          <p:cNvPicPr/>
          <p:nvPr/>
        </p:nvPicPr>
        <p:blipFill>
          <a:blip r:embed="rId3"/>
          <a:stretch/>
        </p:blipFill>
        <p:spPr>
          <a:xfrm>
            <a:off x="4321080" y="2500200"/>
            <a:ext cx="48308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450720" y="579600"/>
            <a:ext cx="8321760" cy="968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s://ds03.infourok.ru/uploads/ex/071c/0000f17b-c8085fd1/3/hello_html_m2f8c78ef.jpg"/>
          <p:cNvPicPr/>
          <p:nvPr/>
        </p:nvPicPr>
        <p:blipFill>
          <a:blip r:embed="rId2"/>
          <a:stretch/>
        </p:blipFill>
        <p:spPr>
          <a:xfrm>
            <a:off x="0" y="0"/>
            <a:ext cx="4454640" cy="3286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s://slushik.ru/wp-content/uploads/2017/02/%D1%81%D1%82%D0%BE%D0%BB%D1%8F%D1%80%D0%BA%D0%B0.gif"/>
          <p:cNvPicPr/>
          <p:nvPr/>
        </p:nvPicPr>
        <p:blipFill>
          <a:blip r:embed="rId3"/>
          <a:stretch/>
        </p:blipFill>
        <p:spPr>
          <a:xfrm>
            <a:off x="4000680" y="2298600"/>
            <a:ext cx="51433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450720" y="579600"/>
            <a:ext cx="8321760" cy="968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ttps://im0-tub-ru.yandex.net/i?id=6ab59d8f3903a39c2ca85d0a05aba2d5&amp;n=33&amp;h=215&amp;w=323"/>
          <p:cNvPicPr/>
          <p:nvPr/>
        </p:nvPicPr>
        <p:blipFill>
          <a:blip r:embed="rId2"/>
          <a:stretch/>
        </p:blipFill>
        <p:spPr>
          <a:xfrm>
            <a:off x="34920" y="142920"/>
            <a:ext cx="4830840" cy="3214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dok74.ru/pluginfile.php/4112/course/overviewfiles/kursi-montazhnikov.jpg"/>
          <p:cNvPicPr/>
          <p:nvPr/>
        </p:nvPicPr>
        <p:blipFill>
          <a:blip r:embed="rId3"/>
          <a:stretch/>
        </p:blipFill>
        <p:spPr>
          <a:xfrm>
            <a:off x="4214880" y="2017800"/>
            <a:ext cx="49291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493560" y="171360"/>
            <a:ext cx="8242560" cy="968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http://www.1000dosok.ru/s/12-07-4257779.jpg"/>
          <p:cNvPicPr/>
          <p:nvPr/>
        </p:nvPicPr>
        <p:blipFill>
          <a:blip r:embed="rId2"/>
          <a:stretch/>
        </p:blipFill>
        <p:spPr>
          <a:xfrm>
            <a:off x="0" y="0"/>
            <a:ext cx="4643280" cy="3247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http://www.polyot.su/img/site/profmasterstvo_07.jpg"/>
          <p:cNvPicPr/>
          <p:nvPr/>
        </p:nvPicPr>
        <p:blipFill>
          <a:blip r:embed="rId3"/>
          <a:stretch/>
        </p:blipFill>
        <p:spPr>
          <a:xfrm>
            <a:off x="4214880" y="2320920"/>
            <a:ext cx="492912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8716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                 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2" descr="https://im0-tub-ru.yandex.net/i?id=76fc2bfc05fbc36609dc93b47a7bcf97-l&amp;n=13"/>
          <p:cNvPicPr/>
          <p:nvPr/>
        </p:nvPicPr>
        <p:blipFill>
          <a:blip r:embed="rId1"/>
          <a:stretch/>
        </p:blipFill>
        <p:spPr>
          <a:xfrm>
            <a:off x="0" y="0"/>
            <a:ext cx="4781520" cy="3191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https://im0-tub-ru.yandex.net/i?id=f6d9df3316871921c6c1390371c8aefc-l&amp;n=13"/>
          <p:cNvPicPr/>
          <p:nvPr/>
        </p:nvPicPr>
        <p:blipFill>
          <a:blip r:embed="rId2"/>
          <a:stretch/>
        </p:blipFill>
        <p:spPr>
          <a:xfrm>
            <a:off x="4357800" y="1533600"/>
            <a:ext cx="47862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6:03:28Z</dcterms:created>
  <dc:creator>User</dc:creator>
  <dc:description/>
  <dc:language>en-US</dc:language>
  <cp:lastModifiedBy>Пользователь Windows</cp:lastModifiedBy>
  <dcterms:modified xsi:type="dcterms:W3CDTF">2017-04-25T11:18:14Z</dcterms:modified>
  <cp:revision>197</cp:revision>
  <dc:subject/>
  <dc:title>Слайд 1</dc:title>
</cp:coreProperties>
</file>