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11.gif" ContentType="image/gif"/>
  <Override PartName="/ppt/media/image14.png" ContentType="image/png"/>
  <Override PartName="/ppt/media/image8.gif" ContentType="image/gif"/>
  <Override PartName="/ppt/media/image13.png" ContentType="image/png"/>
  <Override PartName="/ppt/media/image10.gif" ContentType="image/gif"/>
  <Override PartName="/ppt/media/image18.wmf" ContentType="image/x-wmf"/>
  <Override PartName="/ppt/media/image1.png" ContentType="image/png"/>
  <Override PartName="/ppt/media/image17.gif" ContentType="image/gif"/>
  <Override PartName="/ppt/media/image3.png" ContentType="image/png"/>
  <Override PartName="/ppt/media/image4.png" ContentType="image/png"/>
  <Override PartName="/ppt/media/image19.png" ContentType="image/png"/>
  <Override PartName="/ppt/media/image21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5.gif" ContentType="image/gif"/>
  <Override PartName="/ppt/media/image9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15EB-7A4B-4001-9055-F77E7E0546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9215-65EF-4B66-A6FA-7B6BE3F234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3BF1-88E4-460A-BFFC-5A44DE43DD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же люди могут показать свою любовь? Конечно, любовь доказывается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DFF9-EB22-4345-844C-4620C34C22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BE13-8FD6-43FE-AD46-B8C16DEF8E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85B1-DFAE-4B62-8245-91E0DF754B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FE70-DFA5-49E5-B7CF-DD5BBC3F43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а с классом. Что такое любов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516-EE93-409C-8060-86C2754F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36F-B9BF-4015-983F-4F2FCCC9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1ABB4-47C1-4F57-9892-9BE88483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1B4B1-8302-4933-B854-86C24B2B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7CBB6-4408-4B94-9EFA-5ADB9098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1E667-D4BF-44D6-AF46-601DFBB4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9255F-23CA-4FE4-B917-AC6ECA4B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E53C3-70E9-4572-8B91-EF591515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7FB64-08AF-4D8E-ABD6-C2F8A111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C8872-C824-4CD2-A7B1-1CE6339A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68CB4-9394-47EC-9E02-20C47BEA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2FEA3-4456-49CD-87EC-124DB33D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815-9F6D-4513-8399-F7E51E98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299DE-9927-430F-94A4-2B58340B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5B46C-EE22-4C1F-BB3C-53C15F4D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9C7D9-C011-4B1F-9E02-AE21A7BD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D760C-C30A-48A6-AAF8-43B70639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FD80A-0735-4B38-9732-CFAF244E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5EFB8-15EC-4260-AC76-FDE2D52B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4069F-4CA6-4E44-AB00-DC079BD5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03029-4486-48F6-A6C8-BFBDBEA1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17C07-E045-47F2-A7DB-B6160155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1B1DA-F3DE-4CB1-9D06-C3869D44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09A-7491-4B46-8EAF-D9A6768D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00289-7B2C-4783-876B-C44541E2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A7A24-070C-4655-A83A-69AAD7B2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26F27-C546-4210-A3A2-82F91C41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050A5-EA3D-4554-9480-96F369B2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10AC9-6F1D-43CB-9A6A-12D3C96E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67A9E-118E-4B88-9F16-E25E2B89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21BF9-57C8-45AA-9FE4-E7034747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62021-1BBF-4AAA-8D9D-F1632E2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674E1-D96F-4B0F-9210-FE6E84D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EDC86-24F9-4C4C-8A52-59545C19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3349-24F3-40B6-A256-DB6B2520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CAF0B-BB7D-4A28-9D8A-CAB0CBDB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59590-6C03-46F0-B642-527B7E01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46914-52DC-48D1-86B1-E67594AB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EBAF-37FD-4093-8D14-9834A7E9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F119-CE67-4088-AA31-8BA7F22B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0287-ACF4-4975-9591-11D71672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F7E2-39C9-485A-8115-D8D2D85D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189A-2B58-43F1-81DC-A81C2005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B9DD-B973-4C20-AB08-F3FF734E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A4D-B14B-4ED4-8139-5E4298D2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6503-3A4C-4E76-B5E5-42D3FAF3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93A6-8E4E-4635-ABAA-D4C06CD6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C555-D3A4-4453-90D3-9A2C386A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12C0-B0C1-4EDE-906C-3C72C749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28CA-2886-4BEB-976D-9B4016F7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D81E-8BE9-4613-96EC-473F0814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E1FA-2D9F-46FA-A8F7-40E54AE3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66D3-A053-4822-A259-696B45AF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6CFD-28C9-4D73-8CA7-D8EA92BC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A0A1-D26C-415E-8679-0005930C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D82-D913-4BFB-9674-014FA050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DBAED-CC85-430B-87A9-0EF6707F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50063-1A53-41FF-9D86-B49D231B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8CAC-2E45-4B73-A5D8-4D26A3D4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A62A-8D57-4FC7-A7BB-A4730D05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2298D-AF0D-455C-A85C-229500D8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2BAF-A5AD-4396-9B34-E0778D60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F6E9-CC35-4878-87FF-B693AA6F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5706-AD57-46D0-A86B-14E6F5EE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A71A-903A-4C77-8098-8CE9580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B7C2-5A25-40E3-9E29-25472E40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E42-DCFD-4AB7-A97B-B434DCFE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CFCF-D29F-43EB-AC3A-418A21A2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13FB-0D60-4F68-A4F8-2BB8646E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74F4E-A75D-4714-8725-3A07CAB6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581A7-9D85-4F0F-AC68-80C44931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541A7-251C-4CC5-B6C5-2B25A390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A0D2-B2BF-4782-BC81-46C94933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D9EE-52E8-4B47-A197-67CB12DF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A4D4-1F50-49FB-93B0-6503AB96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C5A38-FA85-4D58-84AA-978BC9DD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3F7C1-D245-42DC-99CF-0E4D570A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3E7-9530-4BA5-8E37-D481632A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ACD41-D823-4187-AFA5-331D510E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B1D0D-F272-4F69-AF3A-F83C0E6D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2B4CB-E271-4CB4-9484-07770256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3BD65-3B28-41CF-B20B-80076188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4CB86-776E-4B20-94DC-7BFE8C0F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C338F-EB30-41EF-8A41-E33D93D5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FF84E-6C51-4329-9E77-B32EDBC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E5027-3FFA-41D4-AC95-46E9BB1B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AA589-FD49-467A-A185-79985024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24CBA-E73E-440A-A359-267E82CB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3BB-764A-4025-BFA0-0434A1D2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34898-A4F3-4314-917D-0BA8D091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B3AEF-D4F5-4A71-8A25-F36A899D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11A6C-441E-4856-95A1-A9E6A93F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5CEA4-A226-4D3C-9B3A-14517967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59E5F-6F38-42FA-B277-99204840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6C19C5-FF3C-42BD-8EE7-FAFD8F0D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6B9E6-32DC-4591-A78B-B568F73F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9D57C-927A-4A04-8146-225371E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0F7A5-48F3-49E5-8870-70439A47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439B8-3EE2-4D51-94F7-C2CAAAF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896-A2CE-4518-8EEF-78EEA31F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E0F6B-39E1-4872-8D26-CCFDFAB8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B3C6A-05D0-47E3-BD33-4662731C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FD685-E9C5-44C2-A41B-2B630ABE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F591F-B4CD-4394-BE08-5EEA8358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D3412-A929-4377-935A-42EC2C32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3A4C0-EACD-48F4-A8B6-BF6B23F5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91613-6558-4E6F-8E5A-9139164B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0ED99-871D-4B88-BD17-B3346B0B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FBE5C-C1B5-44F8-9A62-DCD4D0FC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01594-4947-4297-8732-8BAA662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C22-D2DD-445F-9352-19406A13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82682-B31D-440B-9B13-7DAF611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39BAE-41FE-4171-B8A2-14CBA692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CA452-BFB9-4879-ADDB-3046D6DC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E612E-2CBF-4728-A3C1-E029445B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AE305-9947-4DD8-A7B0-13D34F13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3FB74-C484-4967-A314-BE415716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05FE5-26D8-47AA-9BD5-E3BE677A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458FD-EB0D-4F2C-9F78-52792E7B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675C3-B66C-4E54-AEC0-D5045AE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54D6-B99B-40B8-897F-53EBECF0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764-6FF5-479A-92E8-B31656F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A47D-83A1-4B90-B3E0-683A5618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725AF-1E12-44DA-B98D-AD20A85E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A63E4-9664-44C7-A3DE-F031F887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0CAA8-EAB8-495D-8961-0CFED45F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06ECB-264E-4397-8B4A-0DA9519A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7A736-62CD-4BF6-830D-A6406C9B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FEA47-FC1B-42C4-B580-05D7B89F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D5BF9-7E7A-423A-BB54-AFD012A9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ECE1F-CCED-40F6-A0AB-C893A0D9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0EFE6-AA1D-4409-AC5E-34B4D742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B675-0421-4417-965D-1231DBE9C1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9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9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0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377B-FAF8-4356-A3E2-3DD1FBF6CDF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5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FBCF-6395-4241-A681-FAA89D9C3F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B60-0232-4486-A3C8-5AD884BD55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4933-4A15-47F5-BAF2-0E11B20AF0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8C07-91CF-4EC8-844E-B7127EF9D5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A079-EA87-48BC-8703-5FAB30BBA0F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5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6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6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283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28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5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28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>
                    <a:gd name="textAreaLeft" fmla="*/ 0 w 428040"/>
                    <a:gd name="textAreaRight" fmla="*/ 428400 w 42804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>
                    <a:gd name="textAreaLeft" fmla="*/ 0 w 803880"/>
                    <a:gd name="textAreaRight" fmla="*/ 804240 w 8038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>
                    <a:gd name="textAreaLeft" fmla="*/ 0 w 1207080"/>
                    <a:gd name="textAreaRight" fmla="*/ 1207440 w 12070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DB3-E020-4270-A640-436EEDCE5B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3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3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CF76-33C5-404F-A808-712B8AA3C3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0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1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32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44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63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0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81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8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9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C469-E2CB-48F0-866B-20B8FDAA01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35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37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1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54B1-5DEF-433D-8F19-22823D81EC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3.depositphotos.com/1000434/106/i/950/depositphotos_1060945-Two-3d-gold-wedding-ring.jpg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й час на тему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начинается с семьи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4" descr="48557829_1245976261_1245962630_wedding1"/>
          <p:cNvPicPr/>
          <p:nvPr/>
        </p:nvPicPr>
        <p:blipFill>
          <a:blip r:embed="rId1"/>
          <a:srcRect l="0" t="0" r="11881" b="-1030"/>
          <a:stretch/>
        </p:blipFill>
        <p:spPr>
          <a:xfrm>
            <a:off x="611280" y="2349360"/>
            <a:ext cx="2160360" cy="34498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" descr="11909_1"/>
          <p:cNvPicPr/>
          <p:nvPr/>
        </p:nvPicPr>
        <p:blipFill>
          <a:blip r:embed="rId2"/>
          <a:stretch/>
        </p:blipFill>
        <p:spPr>
          <a:xfrm>
            <a:off x="3276720" y="2637000"/>
            <a:ext cx="2663640" cy="32414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180407_m"/>
          <p:cNvPicPr/>
          <p:nvPr/>
        </p:nvPicPr>
        <p:blipFill>
          <a:blip r:embed="rId3"/>
          <a:stretch/>
        </p:blipFill>
        <p:spPr>
          <a:xfrm>
            <a:off x="5940360" y="1844640"/>
            <a:ext cx="32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9" descr="дети"/>
          <p:cNvPicPr/>
          <p:nvPr/>
        </p:nvPicPr>
        <p:blipFill>
          <a:blip r:embed="rId4"/>
          <a:stretch/>
        </p:blipFill>
        <p:spPr>
          <a:xfrm>
            <a:off x="6588000" y="4076640"/>
            <a:ext cx="22132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655280" y="537840"/>
            <a:ext cx="5343480" cy="121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_MonumentoTitulGr"/>
              </a:rPr>
              <a:t>СПОСОБЫ ВЫРАЖЕНИЯ ЛЮБВИ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_MonumentoTitulG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_MonumentoTitulGr"/>
              </a:rPr>
              <a:t>Внимание к человеку,</a:t>
            </a:r>
            <a:r>
              <a:rPr b="0" lang="ru-RU" sz="3200" spc="-1" strike="noStrike">
                <a:solidFill>
                  <a:srgbClr val="000066"/>
                </a:solidFill>
                <a:latin typeface="a_MonumentoTitulGr"/>
              </a:rPr>
              <a:t>                                                                                                               </a:t>
            </a:r>
            <a:r>
              <a:rPr b="0" lang="ru-RU" sz="3200" spc="-1" strike="noStrike">
                <a:solidFill>
                  <a:srgbClr val="9900ff"/>
                </a:solidFill>
                <a:latin typeface="a_MonumentoTitulGr"/>
              </a:rPr>
              <a:t>помощь в делах, в учебе,                                                                                          подарки, цве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 algn="ctr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_MonumentoTitulG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_MonumentoTitulGr"/>
              </a:rPr>
              <a:t>                                               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_MonumentoTitulGr"/>
              </a:rPr>
              <a:t>Проводить до дома,                                                                                                    забота во время болезни,                                                                               телефонные звонки, письма                                                                              сюрпризы</a:t>
            </a:r>
            <a:r>
              <a:rPr b="0" lang="ru-RU" sz="3200" spc="-1" strike="noStrike">
                <a:solidFill>
                  <a:srgbClr val="9900ff"/>
                </a:solidFill>
                <a:latin typeface="Barocco Init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7" name="Picture 3" descr="E:\копилка\Григорян 17 марта 2007\анимашки\angel1.gif"/>
          <p:cNvPicPr/>
          <p:nvPr/>
        </p:nvPicPr>
        <p:blipFill>
          <a:blip r:embed="rId1"/>
          <a:stretch/>
        </p:blipFill>
        <p:spPr>
          <a:xfrm>
            <a:off x="179280" y="907920"/>
            <a:ext cx="1982880" cy="165276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E:\копилка\Григорян 17 марта 2007\анимашки\angel3.gif"/>
          <p:cNvPicPr/>
          <p:nvPr/>
        </p:nvPicPr>
        <p:blipFill>
          <a:blip r:embed="rId2"/>
          <a:stretch/>
        </p:blipFill>
        <p:spPr>
          <a:xfrm>
            <a:off x="6877080" y="620640"/>
            <a:ext cx="1944720" cy="1621080"/>
          </a:xfrm>
          <a:prstGeom prst="rect">
            <a:avLst/>
          </a:prstGeom>
          <a:ln w="0">
            <a:noFill/>
          </a:ln>
        </p:spPr>
      </p:pic>
      <p:sp>
        <p:nvSpPr>
          <p:cNvPr id="819" name="Oval 6"/>
          <p:cNvSpPr/>
          <p:nvPr/>
        </p:nvSpPr>
        <p:spPr>
          <a:xfrm>
            <a:off x="7596360" y="5877000"/>
            <a:ext cx="576000" cy="647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БОР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УТНИКА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ЖИЗ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386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ышления при выборе суп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о его прошл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та ли его жиз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юблен ли он или увлеч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лает ли он ее счастлив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ет ли он своих родите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жет ли она( он) сохранить свою индивидуальность в бра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ли он терпелив к ошибкам или будет критиковать, проявлять превосходство и вла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4" descr="CORN1"/>
          <p:cNvPicPr/>
          <p:nvPr/>
        </p:nvPicPr>
        <p:blipFill>
          <a:blip r:embed="rId1"/>
          <a:stretch/>
        </p:blipFill>
        <p:spPr>
          <a:xfrm>
            <a:off x="6227640" y="1628640"/>
            <a:ext cx="206064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3384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_MonumentoTitulGr"/>
              </a:rPr>
              <a:t>Брак – это свободный равноправный союз мужчины и женщины, заключенный с соблюдением порядка и условий, установленных законом, имеющих целью создание семьи.</a:t>
            </a:r>
            <a:r>
              <a:rPr b="0" lang="ru-RU" sz="3600" spc="-1" strike="noStrike">
                <a:solidFill>
                  <a:srgbClr val="ff0000"/>
                </a:solidFill>
                <a:latin typeface="a_MonumentoTitulG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4" name="Picture 3" descr="Картинка 47 из 1240">
            <a:hlinkClick r:id="rId1"/>
          </p:cNvPr>
          <p:cNvPicPr/>
          <p:nvPr/>
        </p:nvPicPr>
        <p:blipFill>
          <a:blip r:embed="rId2"/>
          <a:srcRect l="16173" t="11497" r="13060" b="11842"/>
          <a:stretch/>
        </p:blipFill>
        <p:spPr>
          <a:xfrm>
            <a:off x="395280" y="4365720"/>
            <a:ext cx="2521080" cy="2158920"/>
          </a:xfrm>
          <a:prstGeom prst="rect">
            <a:avLst/>
          </a:prstGeom>
          <a:ln w="0">
            <a:noFill/>
          </a:ln>
        </p:spPr>
      </p:pic>
      <p:sp>
        <p:nvSpPr>
          <p:cNvPr id="825" name="Oval 4"/>
          <p:cNvSpPr/>
          <p:nvPr/>
        </p:nvSpPr>
        <p:spPr>
          <a:xfrm>
            <a:off x="5292720" y="4653000"/>
            <a:ext cx="194472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5"/>
          <p:cNvSpPr/>
          <p:nvPr/>
        </p:nvSpPr>
        <p:spPr>
          <a:xfrm>
            <a:off x="7164360" y="333360"/>
            <a:ext cx="180036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6"/>
          <p:cNvSpPr/>
          <p:nvPr/>
        </p:nvSpPr>
        <p:spPr>
          <a:xfrm>
            <a:off x="971640" y="4221000"/>
            <a:ext cx="24480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словицы и поговорки о дом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Гость на пороге – счастье в …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 без хозяйки …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 вести …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Чем богаты, тем и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расна изба не углами, а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В гостях хорошо, а дома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сть на пороге – счастье в…. (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дом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 без хозяйки … 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(сиротк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 вести … 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(не бородой трясти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м богаты, тем и… (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рад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асна изба не углами, а …(пирогами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гостях хорошо, а дома…. (лучш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684000" y="1268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гласно статье 14 Кодекса о браке и семье РФ, заключение брака происходит по истечении месячного срока после подачи заявления в орган загса. Правда, при наличии уважительных причин (срочный призыв жениха в армию, длительная командировка в отдаленную местность) месячный срок может быть сокраще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3" name="Рисунок 8" descr="{F60FE49B-1A1F-4B26-93D9-B1DCF3DA4F7B}"/>
          <p:cNvPicPr/>
          <p:nvPr/>
        </p:nvPicPr>
        <p:blipFill>
          <a:blip r:embed="rId1"/>
          <a:stretch/>
        </p:blipFill>
        <p:spPr>
          <a:xfrm>
            <a:off x="5148360" y="1341360"/>
            <a:ext cx="2724120" cy="44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ава и обязанности родителей и дете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дители обязаны воспитывать своих детей, заботиться об их физическом развитии и обучении, готовить к общественно полезному труду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ец и мать имеют равные права и обязанности в отношении своих детей и несут равные обязанности в отношении своих детей и в случаях, когда брак расторгну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одитель, проживающий отдельно от детей, имеет право общаться с ними и обязан принимать участие в их воспитан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ти обязаны заботиться о родителях и оказывать им помощь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держание нетрудоспособных, нуждающихся в помощи родителей является обязанностью их совершеннолетних детей. Размер участия каждого из детей в содержании нуждающихся в помощи нетрудоспособных родителей определяется судом, исходя из материального и семейного положения родителей и детей, в твердой денежной сумме, выплачиваемой помесяч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и могут быть освобождены от обязанности по содержанию своих родителей, если судом будет установлено, что родители уклонялись от выполнения родительских обязанност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2" descr="e610d91fe6db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классного ча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формировать положительную установку на создание семьи и выполнение семейного долг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пособствовать формированию ответственного отношения к семье;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мочь обучающимся осознать значение семьи в их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аучить ценить такие качества, как дружба, трудолюбие, ответствен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воспитывать уважительное  отношение к семейным традициям и обыча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но преподавателем Садыковой А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67960" cy="5600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a_MonumentoTitulGr"/>
              </a:rPr>
              <a:t>С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a_MonumentoTitulGr"/>
              </a:rPr>
              <a:t>Е М Ь Я  </a:t>
            </a:r>
            <a:r>
              <a:rPr b="0" lang="ru-RU" sz="4000" spc="-1" strike="noStrike">
                <a:solidFill>
                  <a:srgbClr val="0000ff"/>
                </a:solidFill>
                <a:latin typeface="a_MonumentoTitulGr"/>
              </a:rPr>
              <a:t>– основанная на браке или кровном родстве малая группа, связанная общностью быта, взаимной помощью, моральной и правовой ответственностью</a:t>
            </a:r>
            <a:r>
              <a:rPr b="0" lang="ru-RU" sz="4000" spc="-1" strike="noStrike">
                <a:solidFill>
                  <a:srgbClr val="0066ff"/>
                </a:solidFill>
                <a:latin typeface="a_MonumentoTitulGr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val 3"/>
          <p:cNvSpPr/>
          <p:nvPr/>
        </p:nvSpPr>
        <p:spPr>
          <a:xfrm>
            <a:off x="5580000" y="2060640"/>
            <a:ext cx="2521080" cy="7189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Oval 4"/>
          <p:cNvSpPr/>
          <p:nvPr/>
        </p:nvSpPr>
        <p:spPr>
          <a:xfrm>
            <a:off x="5364000" y="3284640"/>
            <a:ext cx="2951280" cy="7189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Oval 5"/>
          <p:cNvSpPr/>
          <p:nvPr/>
        </p:nvSpPr>
        <p:spPr>
          <a:xfrm>
            <a:off x="1403280" y="4581360"/>
            <a:ext cx="6264360" cy="79236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Picture 6" descr="6629839-family-of-four-sunset-silhouette-vect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мья – основанная на браке или родстве малая социальная группа, в современной жизнедеятельности которой реализуются следующие функ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4" descr="j0297551"/>
          <p:cNvPicPr/>
          <p:nvPr/>
        </p:nvPicPr>
        <p:blipFill>
          <a:blip r:embed="rId1"/>
          <a:stretch/>
        </p:blipFill>
        <p:spPr>
          <a:xfrm>
            <a:off x="3348000" y="2924280"/>
            <a:ext cx="2151000" cy="32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00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_MonumentoTitulGr"/>
              </a:rPr>
              <a:t>Функции семь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3"/>
          <p:cNvGrpSpPr/>
          <p:nvPr/>
        </p:nvGrpSpPr>
        <p:grpSpPr>
          <a:xfrm>
            <a:off x="395280" y="2637000"/>
            <a:ext cx="8124480" cy="724680"/>
            <a:chOff x="395280" y="2637000"/>
            <a:chExt cx="8124480" cy="724680"/>
          </a:xfrm>
        </p:grpSpPr>
        <p:sp>
          <p:nvSpPr>
            <p:cNvPr id="721" name="AutoShape 4"/>
            <p:cNvSpPr/>
            <p:nvPr/>
          </p:nvSpPr>
          <p:spPr>
            <a:xfrm>
              <a:off x="395280" y="2637000"/>
              <a:ext cx="8124480" cy="697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8be67"/>
                </a:gs>
                <a:gs pos="100000">
                  <a:srgbClr val="bce7c8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AutoShape 5"/>
            <p:cNvSpPr/>
            <p:nvPr/>
          </p:nvSpPr>
          <p:spPr>
            <a:xfrm>
              <a:off x="465120" y="3148200"/>
              <a:ext cx="8008200" cy="17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e9aa"/>
                </a:gs>
                <a:gs pos="100000">
                  <a:srgbClr val="d6f6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AutoShape 6"/>
            <p:cNvSpPr/>
            <p:nvPr/>
          </p:nvSpPr>
          <p:spPr>
            <a:xfrm>
              <a:off x="465120" y="2652120"/>
              <a:ext cx="8008200" cy="17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dd1"/>
                </a:gs>
                <a:gs pos="100000">
                  <a:srgbClr val="4dc9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Text Box 7"/>
            <p:cNvSpPr/>
            <p:nvPr/>
          </p:nvSpPr>
          <p:spPr>
            <a:xfrm>
              <a:off x="1787760" y="2719080"/>
              <a:ext cx="487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a_MonumentoTitulGr"/>
                </a:rPr>
                <a:t>Воспитательна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5" name="Group 8"/>
            <p:cNvGrpSpPr/>
            <p:nvPr/>
          </p:nvGrpSpPr>
          <p:grpSpPr>
            <a:xfrm>
              <a:off x="975960" y="2637000"/>
              <a:ext cx="811800" cy="718920"/>
              <a:chOff x="975960" y="2637000"/>
              <a:chExt cx="811800" cy="718920"/>
            </a:xfrm>
          </p:grpSpPr>
          <p:sp>
            <p:nvSpPr>
              <p:cNvPr id="726" name="Oval 9"/>
              <p:cNvSpPr/>
              <p:nvPr/>
            </p:nvSpPr>
            <p:spPr>
              <a:xfrm>
                <a:off x="975960" y="2637000"/>
                <a:ext cx="811800" cy="718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Oval 10"/>
              <p:cNvSpPr/>
              <p:nvPr/>
            </p:nvSpPr>
            <p:spPr>
              <a:xfrm>
                <a:off x="984240" y="2642400"/>
                <a:ext cx="784800" cy="696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Oval 11"/>
              <p:cNvSpPr/>
              <p:nvPr/>
            </p:nvSpPr>
            <p:spPr>
              <a:xfrm>
                <a:off x="993960" y="2646720"/>
                <a:ext cx="766800" cy="67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Oval 12"/>
              <p:cNvSpPr/>
              <p:nvPr/>
            </p:nvSpPr>
            <p:spPr>
              <a:xfrm>
                <a:off x="1002600" y="2653200"/>
                <a:ext cx="729000" cy="633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Oval 13"/>
              <p:cNvSpPr/>
              <p:nvPr/>
            </p:nvSpPr>
            <p:spPr>
              <a:xfrm>
                <a:off x="1045080" y="2670120"/>
                <a:ext cx="647640" cy="515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1" name="Text Box 14"/>
            <p:cNvSpPr/>
            <p:nvPr/>
          </p:nvSpPr>
          <p:spPr>
            <a:xfrm>
              <a:off x="1091520" y="2654280"/>
              <a:ext cx="580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_MonumentoTitulGr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15"/>
          <p:cNvGrpSpPr/>
          <p:nvPr/>
        </p:nvGrpSpPr>
        <p:grpSpPr>
          <a:xfrm>
            <a:off x="539640" y="3573360"/>
            <a:ext cx="7992720" cy="805680"/>
            <a:chOff x="539640" y="3573360"/>
            <a:chExt cx="7992720" cy="805680"/>
          </a:xfrm>
        </p:grpSpPr>
        <p:sp>
          <p:nvSpPr>
            <p:cNvPr id="733" name="AutoShape 16"/>
            <p:cNvSpPr/>
            <p:nvPr/>
          </p:nvSpPr>
          <p:spPr>
            <a:xfrm>
              <a:off x="539640" y="3591360"/>
              <a:ext cx="7992720" cy="71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0d4f2"/>
                </a:gs>
                <a:gs pos="100000">
                  <a:srgbClr val="b2e5f7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AutoShape 17"/>
            <p:cNvSpPr/>
            <p:nvPr/>
          </p:nvSpPr>
          <p:spPr>
            <a:xfrm>
              <a:off x="608400" y="4118760"/>
              <a:ext cx="7878960" cy="18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e2f5"/>
                </a:gs>
                <a:gs pos="100000">
                  <a:srgbClr val="d5f0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AutoShape 18"/>
            <p:cNvSpPr/>
            <p:nvPr/>
          </p:nvSpPr>
          <p:spPr>
            <a:xfrm>
              <a:off x="608400" y="3606840"/>
              <a:ext cx="7878960" cy="18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f1fb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1909800" y="3675600"/>
              <a:ext cx="479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ff"/>
                  </a:solidFill>
                  <a:latin typeface="a_MonumentoTitulGr"/>
                </a:rPr>
                <a:t>Защитная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7" name="Group 20"/>
            <p:cNvGrpSpPr/>
            <p:nvPr/>
          </p:nvGrpSpPr>
          <p:grpSpPr>
            <a:xfrm>
              <a:off x="1110240" y="3573360"/>
              <a:ext cx="799200" cy="741240"/>
              <a:chOff x="1110240" y="3573360"/>
              <a:chExt cx="799200" cy="741240"/>
            </a:xfrm>
          </p:grpSpPr>
          <p:sp>
            <p:nvSpPr>
              <p:cNvPr id="738" name="Oval 21"/>
              <p:cNvSpPr/>
              <p:nvPr/>
            </p:nvSpPr>
            <p:spPr>
              <a:xfrm>
                <a:off x="1110240" y="3573360"/>
                <a:ext cx="799200" cy="741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Oval 22"/>
              <p:cNvSpPr/>
              <p:nvPr/>
            </p:nvSpPr>
            <p:spPr>
              <a:xfrm>
                <a:off x="1118520" y="3579120"/>
                <a:ext cx="772920" cy="717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Oval 23"/>
              <p:cNvSpPr/>
              <p:nvPr/>
            </p:nvSpPr>
            <p:spPr>
              <a:xfrm>
                <a:off x="1127880" y="3583080"/>
                <a:ext cx="754920" cy="70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24"/>
              <p:cNvSpPr/>
              <p:nvPr/>
            </p:nvSpPr>
            <p:spPr>
              <a:xfrm>
                <a:off x="1136520" y="3589920"/>
                <a:ext cx="717840" cy="653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Oval 25"/>
              <p:cNvSpPr/>
              <p:nvPr/>
            </p:nvSpPr>
            <p:spPr>
              <a:xfrm>
                <a:off x="1178280" y="3607560"/>
                <a:ext cx="637560" cy="531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3" name="Text Box 26"/>
            <p:cNvSpPr/>
            <p:nvPr/>
          </p:nvSpPr>
          <p:spPr>
            <a:xfrm>
              <a:off x="1224720" y="3591360"/>
              <a:ext cx="57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_MonumentoTitulGr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27"/>
          <p:cNvGrpSpPr/>
          <p:nvPr/>
        </p:nvGrpSpPr>
        <p:grpSpPr>
          <a:xfrm>
            <a:off x="468360" y="4653000"/>
            <a:ext cx="8064000" cy="717480"/>
            <a:chOff x="468360" y="4653000"/>
            <a:chExt cx="8064000" cy="717480"/>
          </a:xfrm>
        </p:grpSpPr>
        <p:sp>
          <p:nvSpPr>
            <p:cNvPr id="745" name="AutoShape 28"/>
            <p:cNvSpPr/>
            <p:nvPr/>
          </p:nvSpPr>
          <p:spPr>
            <a:xfrm>
              <a:off x="468360" y="4653000"/>
              <a:ext cx="8064000" cy="55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587e7"/>
                </a:gs>
                <a:gs pos="100000">
                  <a:srgbClr val="ded3f6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AutoShape 29"/>
            <p:cNvSpPr/>
            <p:nvPr/>
          </p:nvSpPr>
          <p:spPr>
            <a:xfrm>
              <a:off x="537840" y="5063760"/>
              <a:ext cx="7948440" cy="14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cff5"/>
                </a:gs>
                <a:gs pos="100000">
                  <a:srgbClr val="eae3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AutoShape 30"/>
            <p:cNvSpPr/>
            <p:nvPr/>
          </p:nvSpPr>
          <p:spPr>
            <a:xfrm>
              <a:off x="537840" y="4664880"/>
              <a:ext cx="7948440" cy="143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c9f5"/>
                </a:gs>
                <a:gs pos="100000">
                  <a:srgbClr val="b59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Text Box 31"/>
            <p:cNvSpPr/>
            <p:nvPr/>
          </p:nvSpPr>
          <p:spPr>
            <a:xfrm>
              <a:off x="1850400" y="4718880"/>
              <a:ext cx="483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a_MonumentoTitulGr"/>
                </a:rPr>
                <a:t>Экономическа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9" name="Group 32"/>
            <p:cNvGrpSpPr/>
            <p:nvPr/>
          </p:nvGrpSpPr>
          <p:grpSpPr>
            <a:xfrm>
              <a:off x="1044720" y="4653000"/>
              <a:ext cx="805680" cy="577080"/>
              <a:chOff x="1044720" y="4653000"/>
              <a:chExt cx="805680" cy="577080"/>
            </a:xfrm>
          </p:grpSpPr>
          <p:sp>
            <p:nvSpPr>
              <p:cNvPr id="750" name="Oval 33"/>
              <p:cNvSpPr/>
              <p:nvPr/>
            </p:nvSpPr>
            <p:spPr>
              <a:xfrm>
                <a:off x="1044720" y="4653000"/>
                <a:ext cx="805680" cy="577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Oval 34"/>
              <p:cNvSpPr/>
              <p:nvPr/>
            </p:nvSpPr>
            <p:spPr>
              <a:xfrm>
                <a:off x="1053000" y="4657320"/>
                <a:ext cx="779040" cy="558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Oval 35"/>
              <p:cNvSpPr/>
              <p:nvPr/>
            </p:nvSpPr>
            <p:spPr>
              <a:xfrm>
                <a:off x="1062720" y="4660560"/>
                <a:ext cx="761040" cy="545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36"/>
              <p:cNvSpPr/>
              <p:nvPr/>
            </p:nvSpPr>
            <p:spPr>
              <a:xfrm>
                <a:off x="1071000" y="4665960"/>
                <a:ext cx="723600" cy="508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Oval 37"/>
              <p:cNvSpPr/>
              <p:nvPr/>
            </p:nvSpPr>
            <p:spPr>
              <a:xfrm>
                <a:off x="1113120" y="4679640"/>
                <a:ext cx="642960" cy="413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5" name="Text Box 38"/>
            <p:cNvSpPr/>
            <p:nvPr/>
          </p:nvSpPr>
          <p:spPr>
            <a:xfrm>
              <a:off x="1159200" y="466704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_MonumentoTitulGr"/>
                </a:rPr>
                <a:t>4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6" name="Group 39"/>
          <p:cNvGrpSpPr/>
          <p:nvPr/>
        </p:nvGrpSpPr>
        <p:grpSpPr>
          <a:xfrm>
            <a:off x="468360" y="5589720"/>
            <a:ext cx="8135640" cy="731520"/>
            <a:chOff x="468360" y="5589720"/>
            <a:chExt cx="8135640" cy="731520"/>
          </a:xfrm>
        </p:grpSpPr>
        <p:grpSp>
          <p:nvGrpSpPr>
            <p:cNvPr id="757" name="Group 40"/>
            <p:cNvGrpSpPr/>
            <p:nvPr/>
          </p:nvGrpSpPr>
          <p:grpSpPr>
            <a:xfrm>
              <a:off x="1049040" y="5589720"/>
              <a:ext cx="813600" cy="646920"/>
              <a:chOff x="1049040" y="5589720"/>
              <a:chExt cx="813600" cy="646920"/>
            </a:xfrm>
          </p:grpSpPr>
          <p:sp>
            <p:nvSpPr>
              <p:cNvPr id="758" name="Oval 41"/>
              <p:cNvSpPr/>
              <p:nvPr/>
            </p:nvSpPr>
            <p:spPr>
              <a:xfrm>
                <a:off x="1049040" y="5589720"/>
                <a:ext cx="813600" cy="646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42"/>
              <p:cNvSpPr/>
              <p:nvPr/>
            </p:nvSpPr>
            <p:spPr>
              <a:xfrm>
                <a:off x="1057320" y="5594760"/>
                <a:ext cx="786600" cy="62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43"/>
              <p:cNvSpPr/>
              <p:nvPr/>
            </p:nvSpPr>
            <p:spPr>
              <a:xfrm>
                <a:off x="1067040" y="5598360"/>
                <a:ext cx="768600" cy="610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44"/>
              <p:cNvSpPr/>
              <p:nvPr/>
            </p:nvSpPr>
            <p:spPr>
              <a:xfrm>
                <a:off x="1075680" y="5604120"/>
                <a:ext cx="730800" cy="570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45"/>
              <p:cNvSpPr/>
              <p:nvPr/>
            </p:nvSpPr>
            <p:spPr>
              <a:xfrm>
                <a:off x="1118160" y="5619600"/>
                <a:ext cx="649080" cy="46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3" name="Text Box 46"/>
            <p:cNvSpPr/>
            <p:nvPr/>
          </p:nvSpPr>
          <p:spPr>
            <a:xfrm>
              <a:off x="1165680" y="5604840"/>
              <a:ext cx="5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AutoShape 47"/>
            <p:cNvSpPr/>
            <p:nvPr/>
          </p:nvSpPr>
          <p:spPr>
            <a:xfrm>
              <a:off x="468360" y="5604840"/>
              <a:ext cx="8135640" cy="62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875a"/>
                </a:gs>
                <a:gs pos="100000">
                  <a:srgbClr val="f5c5af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AutoShape 48"/>
            <p:cNvSpPr/>
            <p:nvPr/>
          </p:nvSpPr>
          <p:spPr>
            <a:xfrm>
              <a:off x="538560" y="6065640"/>
              <a:ext cx="8019720" cy="16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bda5"/>
                </a:gs>
                <a:gs pos="100000">
                  <a:srgbClr val="f8db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AutoShape 49"/>
            <p:cNvSpPr/>
            <p:nvPr/>
          </p:nvSpPr>
          <p:spPr>
            <a:xfrm>
              <a:off x="538560" y="5618520"/>
              <a:ext cx="8019720" cy="16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ddd0"/>
                </a:gs>
                <a:gs pos="100000">
                  <a:srgbClr val="f59a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50"/>
            <p:cNvSpPr/>
            <p:nvPr/>
          </p:nvSpPr>
          <p:spPr>
            <a:xfrm>
              <a:off x="1863000" y="5678640"/>
              <a:ext cx="488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a_MonumentoTitulGr"/>
                </a:rPr>
                <a:t>Ролева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8" name="Group 51"/>
            <p:cNvGrpSpPr/>
            <p:nvPr/>
          </p:nvGrpSpPr>
          <p:grpSpPr>
            <a:xfrm>
              <a:off x="1049040" y="5589720"/>
              <a:ext cx="813600" cy="646920"/>
              <a:chOff x="1049040" y="5589720"/>
              <a:chExt cx="813600" cy="646920"/>
            </a:xfrm>
          </p:grpSpPr>
          <p:sp>
            <p:nvSpPr>
              <p:cNvPr id="769" name="Oval 52"/>
              <p:cNvSpPr/>
              <p:nvPr/>
            </p:nvSpPr>
            <p:spPr>
              <a:xfrm>
                <a:off x="1049040" y="5589720"/>
                <a:ext cx="813600" cy="646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Oval 53"/>
              <p:cNvSpPr/>
              <p:nvPr/>
            </p:nvSpPr>
            <p:spPr>
              <a:xfrm>
                <a:off x="1057320" y="5594760"/>
                <a:ext cx="786600" cy="62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Oval 54"/>
              <p:cNvSpPr/>
              <p:nvPr/>
            </p:nvSpPr>
            <p:spPr>
              <a:xfrm>
                <a:off x="1067040" y="5598360"/>
                <a:ext cx="768600" cy="610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Oval 55"/>
              <p:cNvSpPr/>
              <p:nvPr/>
            </p:nvSpPr>
            <p:spPr>
              <a:xfrm>
                <a:off x="1075680" y="5604120"/>
                <a:ext cx="730800" cy="570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Oval 56"/>
              <p:cNvSpPr/>
              <p:nvPr/>
            </p:nvSpPr>
            <p:spPr>
              <a:xfrm>
                <a:off x="1118160" y="5619600"/>
                <a:ext cx="649080" cy="46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4" name="Text Box 57"/>
            <p:cNvSpPr/>
            <p:nvPr/>
          </p:nvSpPr>
          <p:spPr>
            <a:xfrm>
              <a:off x="1165680" y="5604840"/>
              <a:ext cx="580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_MonumentoTitulGr"/>
                </a:rPr>
                <a:t>5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Group 58"/>
          <p:cNvGrpSpPr/>
          <p:nvPr/>
        </p:nvGrpSpPr>
        <p:grpSpPr>
          <a:xfrm>
            <a:off x="468360" y="1557360"/>
            <a:ext cx="7990920" cy="743760"/>
            <a:chOff x="468360" y="1557360"/>
            <a:chExt cx="7990920" cy="743760"/>
          </a:xfrm>
        </p:grpSpPr>
        <p:sp>
          <p:nvSpPr>
            <p:cNvPr id="776" name="AutoShape 59"/>
            <p:cNvSpPr/>
            <p:nvPr/>
          </p:nvSpPr>
          <p:spPr>
            <a:xfrm>
              <a:off x="468360" y="1574640"/>
              <a:ext cx="7990920" cy="709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de78"/>
                </a:gs>
                <a:gs pos="100000">
                  <a:srgbClr val="faf2c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AutoShape 60"/>
            <p:cNvSpPr/>
            <p:nvPr/>
          </p:nvSpPr>
          <p:spPr>
            <a:xfrm>
              <a:off x="537120" y="2095560"/>
              <a:ext cx="7877160" cy="182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6b4"/>
                </a:gs>
                <a:gs pos="100000">
                  <a:srgbClr val="fdfd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AutoShape 61"/>
            <p:cNvSpPr/>
            <p:nvPr/>
          </p:nvSpPr>
          <p:spPr>
            <a:xfrm>
              <a:off x="537120" y="1590120"/>
              <a:ext cx="7877160" cy="182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fade"/>
                </a:gs>
                <a:gs pos="100000">
                  <a:srgbClr val="eded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Text Box 62"/>
            <p:cNvSpPr/>
            <p:nvPr/>
          </p:nvSpPr>
          <p:spPr>
            <a:xfrm>
              <a:off x="1838160" y="1658520"/>
              <a:ext cx="479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ff"/>
                  </a:solidFill>
                  <a:latin typeface="a_MonumentoTitulGr"/>
                </a:rPr>
                <a:t>Репродуктивна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0" name="Group 63"/>
            <p:cNvGrpSpPr/>
            <p:nvPr/>
          </p:nvGrpSpPr>
          <p:grpSpPr>
            <a:xfrm>
              <a:off x="1038960" y="1557360"/>
              <a:ext cx="799200" cy="731880"/>
              <a:chOff x="1038960" y="1557360"/>
              <a:chExt cx="799200" cy="731880"/>
            </a:xfrm>
          </p:grpSpPr>
          <p:sp>
            <p:nvSpPr>
              <p:cNvPr id="781" name="Oval 64"/>
              <p:cNvSpPr/>
              <p:nvPr/>
            </p:nvSpPr>
            <p:spPr>
              <a:xfrm>
                <a:off x="1038960" y="1557360"/>
                <a:ext cx="799200" cy="731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Oval 65"/>
              <p:cNvSpPr/>
              <p:nvPr/>
            </p:nvSpPr>
            <p:spPr>
              <a:xfrm>
                <a:off x="1047240" y="1562760"/>
                <a:ext cx="772920" cy="708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Oval 66"/>
              <p:cNvSpPr/>
              <p:nvPr/>
            </p:nvSpPr>
            <p:spPr>
              <a:xfrm>
                <a:off x="1056600" y="1567080"/>
                <a:ext cx="754920" cy="691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Oval 67"/>
              <p:cNvSpPr/>
              <p:nvPr/>
            </p:nvSpPr>
            <p:spPr>
              <a:xfrm>
                <a:off x="1065240" y="1573920"/>
                <a:ext cx="717840" cy="645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Oval 68"/>
              <p:cNvSpPr/>
              <p:nvPr/>
            </p:nvSpPr>
            <p:spPr>
              <a:xfrm>
                <a:off x="1107000" y="1591200"/>
                <a:ext cx="637560" cy="524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69"/>
            <p:cNvSpPr/>
            <p:nvPr/>
          </p:nvSpPr>
          <p:spPr>
            <a:xfrm>
              <a:off x="1153080" y="1574640"/>
              <a:ext cx="57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Group 70"/>
            <p:cNvGrpSpPr/>
            <p:nvPr/>
          </p:nvGrpSpPr>
          <p:grpSpPr>
            <a:xfrm>
              <a:off x="1038960" y="1557360"/>
              <a:ext cx="799200" cy="731880"/>
              <a:chOff x="1038960" y="1557360"/>
              <a:chExt cx="799200" cy="731880"/>
            </a:xfrm>
          </p:grpSpPr>
          <p:sp>
            <p:nvSpPr>
              <p:cNvPr id="788" name="Oval 71"/>
              <p:cNvSpPr/>
              <p:nvPr/>
            </p:nvSpPr>
            <p:spPr>
              <a:xfrm>
                <a:off x="1038960" y="1557360"/>
                <a:ext cx="799200" cy="731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72"/>
              <p:cNvSpPr/>
              <p:nvPr/>
            </p:nvSpPr>
            <p:spPr>
              <a:xfrm>
                <a:off x="1047240" y="1562760"/>
                <a:ext cx="772920" cy="708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73"/>
              <p:cNvSpPr/>
              <p:nvPr/>
            </p:nvSpPr>
            <p:spPr>
              <a:xfrm>
                <a:off x="1056600" y="1567080"/>
                <a:ext cx="754920" cy="691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74"/>
              <p:cNvSpPr/>
              <p:nvPr/>
            </p:nvSpPr>
            <p:spPr>
              <a:xfrm>
                <a:off x="1065240" y="1573920"/>
                <a:ext cx="717840" cy="645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75"/>
              <p:cNvSpPr/>
              <p:nvPr/>
            </p:nvSpPr>
            <p:spPr>
              <a:xfrm>
                <a:off x="1107000" y="1591200"/>
                <a:ext cx="637560" cy="524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3" name="Text Box 76"/>
            <p:cNvSpPr/>
            <p:nvPr/>
          </p:nvSpPr>
          <p:spPr>
            <a:xfrm>
              <a:off x="1153080" y="1574640"/>
              <a:ext cx="57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_MonumentoTitulGr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1"/>
          <a:stretch/>
        </p:blipFill>
        <p:spPr>
          <a:xfrm>
            <a:off x="3714840" y="5715000"/>
            <a:ext cx="500040" cy="53496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3" descr="H:\Documents and Settings\Aida\Рабочий стол\НОвая ГРАФИКА сборник\КАРТИНКИ СБОРНИК_ школьные\__Flo20.gif"/>
          <p:cNvPicPr/>
          <p:nvPr/>
        </p:nvPicPr>
        <p:blipFill>
          <a:blip r:embed="rId2"/>
          <a:stretch/>
        </p:blipFill>
        <p:spPr>
          <a:xfrm>
            <a:off x="4000680" y="6000840"/>
            <a:ext cx="409320" cy="2858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6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3"/>
          <a:stretch/>
        </p:blipFill>
        <p:spPr>
          <a:xfrm>
            <a:off x="8072280" y="4929120"/>
            <a:ext cx="743040" cy="981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7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4"/>
          <a:stretch/>
        </p:blipFill>
        <p:spPr>
          <a:xfrm>
            <a:off x="2286000" y="5929200"/>
            <a:ext cx="514440" cy="32544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8" descr="H:\Documents and Settings\Aida\Рабочий стол\НОвая ГРАФИКА сборник\КАРТИНКИ СБОРНИК_ школьные\__Flo15.gif"/>
          <p:cNvPicPr/>
          <p:nvPr/>
        </p:nvPicPr>
        <p:blipFill>
          <a:blip r:embed="rId5"/>
          <a:stretch/>
        </p:blipFill>
        <p:spPr>
          <a:xfrm flipH="1">
            <a:off x="499680" y="5357880"/>
            <a:ext cx="771480" cy="9810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9" descr="H:\Documents and Settings\Aida\Рабочий стол\НОвая ГРАФИКА сборник\КАРТИНКИ СБОРНИК_ школьные\__SUN2.gif"/>
          <p:cNvPicPr/>
          <p:nvPr/>
        </p:nvPicPr>
        <p:blipFill>
          <a:blip r:embed="rId6"/>
          <a:stretch/>
        </p:blipFill>
        <p:spPr>
          <a:xfrm>
            <a:off x="0" y="214200"/>
            <a:ext cx="5715000" cy="124776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4968720" cy="4824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мья, материнство, отцовство и детство в Российской Федерации находятся под защит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ный Кодекс РФ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лава 1статья 1)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9" descr="untitled"/>
          <p:cNvPicPr/>
          <p:nvPr/>
        </p:nvPicPr>
        <p:blipFill>
          <a:blip r:embed="rId7"/>
          <a:srcRect l="40502" t="-1051" r="0" b="0"/>
          <a:stretch/>
        </p:blipFill>
        <p:spPr>
          <a:xfrm>
            <a:off x="4716360" y="549360"/>
            <a:ext cx="4176720" cy="601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ffff">
                <a:alpha val="50000"/>
              </a:srgbClr>
            </a:outerShdw>
          </a:effectLst>
        </p:spPr>
      </p:pic>
      <p:sp>
        <p:nvSpPr>
          <p:cNvPr id="802" name="Rectangle 11"/>
          <p:cNvSpPr/>
          <p:nvPr/>
        </p:nvSpPr>
        <p:spPr>
          <a:xfrm>
            <a:off x="395280" y="4653000"/>
            <a:ext cx="35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826920" y="549360"/>
            <a:ext cx="727416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_MonumentoTitulGr"/>
              </a:rPr>
              <a:t>Форма семь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4" name="Picture 3" descr="family-vector-1_48500"/>
          <p:cNvPicPr/>
          <p:nvPr/>
        </p:nvPicPr>
        <p:blipFill>
          <a:blip r:embed="rId1"/>
          <a:stretch/>
        </p:blipFill>
        <p:spPr>
          <a:xfrm>
            <a:off x="468360" y="2997360"/>
            <a:ext cx="3960720" cy="3406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4" descr="vector-illustration-picturing-a-family-at-the-table-on-thanksgiving-day_1600_1652"/>
          <p:cNvPicPr/>
          <p:nvPr/>
        </p:nvPicPr>
        <p:blipFill>
          <a:blip r:embed="rId2"/>
          <a:stretch/>
        </p:blipFill>
        <p:spPr>
          <a:xfrm>
            <a:off x="4643280" y="3357720"/>
            <a:ext cx="4034160" cy="2949480"/>
          </a:xfrm>
          <a:prstGeom prst="rect">
            <a:avLst/>
          </a:prstGeom>
          <a:ln w="0">
            <a:noFill/>
          </a:ln>
        </p:spPr>
      </p:pic>
      <p:sp>
        <p:nvSpPr>
          <p:cNvPr id="806" name="AutoShape 5"/>
          <p:cNvSpPr/>
          <p:nvPr/>
        </p:nvSpPr>
        <p:spPr>
          <a:xfrm>
            <a:off x="4932360" y="1484280"/>
            <a:ext cx="360036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66ff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_MonumentoTitulGr"/>
              </a:rPr>
              <a:t>Расширенна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_MonumentoTitulGr"/>
              </a:rPr>
              <a:t>сем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6"/>
          <p:cNvSpPr/>
          <p:nvPr/>
        </p:nvSpPr>
        <p:spPr>
          <a:xfrm>
            <a:off x="684360" y="1268280"/>
            <a:ext cx="323820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66ff"/>
            </a:solidFill>
            <a:miter/>
          </a:ln>
          <a:effectLst>
            <a:outerShdw dist="107932" dir="2700000" blurRad="0" rotWithShape="0">
              <a:srgbClr val="0000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_MonumentoTitulGr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_MonumentoTitulGr"/>
              </a:rPr>
              <a:t>Семья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_MonumentoTitulGr"/>
              </a:rPr>
              <a:t>ядр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сказывания великих люд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Семья – это то, что с тобою всегда!»Л.Н.Толст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Брак – это многолетний героический труд отца и матери, поднимающих на ноги своих детей!»Бернард Шо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Ребенок учится тому, что видит у себя в дому. Родители – пример ему». Себастьян Бранд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Жениться – это значит наполовину уменьшить свои права и вдвое увеличить свои обязанности». А. Шопенгауэ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91800" y="337680"/>
            <a:ext cx="561348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66"/>
                </a:solidFill>
                <a:latin typeface="a_MonumentoTitulGr"/>
              </a:rPr>
              <a:t>СЕМЬЯ –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000" y="990720"/>
            <a:ext cx="5832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сновная ячейка                           общества.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 Малая социальная групп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Основана на браке или родств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2971440" y="4495680"/>
            <a:ext cx="5791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_MonumentoTitulGr"/>
              </a:rPr>
              <a:t>А ЕЩЕ НА ОСНОВЕ ЧЕГО СОЗДАЕТСЯ СЕМ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819080" cy="157788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6"/>
          <p:cNvSpPr/>
          <p:nvPr/>
        </p:nvSpPr>
        <p:spPr>
          <a:xfrm>
            <a:off x="5651640" y="58053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_MonumentoTitulGr"/>
              </a:rPr>
              <a:t>ЛЮБОВ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17:49:34Z</dcterms:created>
  <dc:creator>UserXP</dc:creator>
  <dc:description/>
  <dc:language>en-US</dc:language>
  <cp:lastModifiedBy>PL146</cp:lastModifiedBy>
  <dcterms:modified xsi:type="dcterms:W3CDTF">2010-05-11T17:59:28Z</dcterms:modified>
  <cp:revision>19</cp:revision>
  <dc:subject/>
  <dc:title>Слайд 1</dc:title>
</cp:coreProperties>
</file>