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icrosoft Sans Serif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3A0DA-FB2E-48EB-9B4F-64DCC80CAF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D1CF9-0A14-4B9B-98BD-5BE088D5F1D9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23093-6E04-4B75-A126-670E31C5DDD2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2DAA6-3495-4A81-9709-7B24499F7644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37840" y="284760"/>
            <a:ext cx="7248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33640" y="190476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133640" y="417348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37840" y="284760"/>
            <a:ext cx="7248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33640" y="19047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82320" y="19047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33640" y="417348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882320" y="417348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37840" y="284760"/>
            <a:ext cx="7248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33640" y="190476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06840" y="190476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80040" y="190476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133640" y="417348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06840" y="417348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80040" y="417348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437840" y="284760"/>
            <a:ext cx="7248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133640" y="19047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37840" y="284760"/>
            <a:ext cx="7248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33640" y="19047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37840" y="284760"/>
            <a:ext cx="7248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33640" y="190476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882320" y="190476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37840" y="284760"/>
            <a:ext cx="7248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37840" y="438120"/>
            <a:ext cx="7248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37840" y="284760"/>
            <a:ext cx="7248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33640" y="19047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82320" y="190476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133640" y="417348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37840" y="284760"/>
            <a:ext cx="7248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133640" y="19047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37840" y="284760"/>
            <a:ext cx="7248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33640" y="190476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82320" y="19047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882320" y="417348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37840" y="284760"/>
            <a:ext cx="7248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33640" y="19047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82320" y="19047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33640" y="417348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37840" y="284760"/>
            <a:ext cx="7248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33640" y="190476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133640" y="417348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7840" y="284760"/>
            <a:ext cx="7248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33640" y="19047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82320" y="19047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33640" y="417348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882320" y="417348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37840" y="284760"/>
            <a:ext cx="7248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33640" y="190476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06840" y="190476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80040" y="190476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133640" y="417348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606840" y="417348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80040" y="417348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37840" y="284760"/>
            <a:ext cx="7248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133640" y="19047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7840" y="284760"/>
            <a:ext cx="7248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33640" y="190476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882320" y="190476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37840" y="284760"/>
            <a:ext cx="7248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437840" y="438120"/>
            <a:ext cx="7248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37840" y="284760"/>
            <a:ext cx="7248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33640" y="19047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82320" y="190476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133640" y="417348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37840" y="284760"/>
            <a:ext cx="7248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33640" y="190476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2320" y="19047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882320" y="417348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7840" y="284760"/>
            <a:ext cx="7248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33640" y="19047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2320" y="19047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33640" y="417348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37840" y="438120"/>
            <a:ext cx="7248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33640" y="19047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37840" y="438120"/>
            <a:ext cx="7248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133640" y="19047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716360" y="2349360"/>
            <a:ext cx="417672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Microsoft Sans Serif"/>
              </a:rPr>
              <a:t>Развитие творческих способностей у детей  с ОНР посредством театральной деятельности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845964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icrosoft Sans Serif"/>
              </a:rPr>
              <a:t>Особенности театрализованной деятельности у детей с ОНР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116000" y="1268280"/>
            <a:ext cx="78184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Распределяя роль  в игре драматизации, следует учитывать речевые возможности каждого ребёнка в определенный период логопедической работы.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marL="332640" indent="-332640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marL="332640" indent="-332640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Стремимся дать ребёнку выступить наравне с другими, хотя бы с самой маленькой речью, давая возможность отвлечься от речевого дефекта или показать свою правильную речь.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marL="332640" indent="-332640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marL="332640" indent="-332640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Стимулируем желание получить роль персонажа –это мощный стимул для быстрого обучения правильной речи.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31640" y="404640"/>
            <a:ext cx="7248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icrosoft Sans Serif"/>
              </a:rPr>
              <a:t>ЭТАПЫ РАБОТЫ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116000" y="1341360"/>
            <a:ext cx="73152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ОРИЕНТИРОВКА РЕБЁНА НА ТЕАТРАЛИЗОВАННУЮ ДЕЯТЕЛЬНОСТЬ (ЭЛЕМЕНТЫ ТВОРЧЕСТВА)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ПОБУЖДЕНИЕ К СОТВОРЧЕСТВУ СО ВЗРОСЛЫМ (ОТРАБОТКА ЧТЕНИЯ ПО РОЛЯМ)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САМОСТОЯТЕЛЬНАЯ ДЕЯТЕЛЬНОСТЬ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    </a:t>
            </a: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( ИГРА-ДРАМАТИЗАЦИЯ)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37840" y="438120"/>
            <a:ext cx="7248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icrosoft Sans Serif"/>
              </a:rPr>
              <a:t>Виды деятельности для активизации речи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258920" y="1197000"/>
            <a:ext cx="73152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030a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Microsoft Sans Serif"/>
              </a:rPr>
              <a:t>Ритмопластика 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39480" indent="-339480">
              <a:spcBef>
                <a:spcPts val="799"/>
              </a:spcBef>
              <a:buClr>
                <a:srgbClr val="7030a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Microsoft Sans Serif"/>
              </a:rPr>
              <a:t>Упражнения и этюды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39480" indent="-339480">
              <a:spcBef>
                <a:spcPts val="799"/>
              </a:spcBef>
              <a:buClr>
                <a:srgbClr val="7030a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Microsoft Sans Serif"/>
              </a:rPr>
              <a:t>Кукольный театр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39480" indent="-339480">
              <a:spcBef>
                <a:spcPts val="799"/>
              </a:spcBef>
              <a:buClr>
                <a:srgbClr val="7030a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Microsoft Sans Serif"/>
              </a:rPr>
              <a:t>Речевые игры и упражнения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39480" indent="-339480">
              <a:spcBef>
                <a:spcPts val="799"/>
              </a:spcBef>
              <a:buClr>
                <a:srgbClr val="7030a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Microsoft Sans Serif"/>
              </a:rPr>
              <a:t>Пальчиковый театр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39480" indent="-339480">
              <a:spcBef>
                <a:spcPts val="799"/>
              </a:spcBef>
              <a:buClr>
                <a:srgbClr val="7030a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Microsoft Sans Serif"/>
              </a:rPr>
              <a:t>Плоскостной театр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39480" indent="-339480">
              <a:spcBef>
                <a:spcPts val="799"/>
              </a:spcBef>
              <a:buClr>
                <a:srgbClr val="7030a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Microsoft Sans Serif"/>
              </a:rPr>
              <a:t>Настольный театр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39480" indent="-339480">
              <a:spcBef>
                <a:spcPts val="799"/>
              </a:spcBef>
              <a:buClr>
                <a:srgbClr val="7030a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Microsoft Sans Serif"/>
              </a:rPr>
              <a:t>Перчаточный театр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39480" indent="-339480">
              <a:spcBef>
                <a:spcPts val="799"/>
              </a:spcBef>
              <a:buClr>
                <a:srgbClr val="7030a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7840" y="438120"/>
            <a:ext cx="7248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icrosoft Sans Serif"/>
              </a:rPr>
              <a:t>Развивающая среда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pic>
        <p:nvPicPr>
          <p:cNvPr id="108" name="Picture 4" descr="http://el-ab.ru/foto2.png?i=48727&amp;k=teatralnij-ugolok-v-sadu-foto%7d"/>
          <p:cNvPicPr/>
          <p:nvPr/>
        </p:nvPicPr>
        <p:blipFill>
          <a:blip r:embed="rId1"/>
          <a:stretch/>
        </p:blipFill>
        <p:spPr>
          <a:xfrm>
            <a:off x="1116000" y="1125360"/>
            <a:ext cx="772812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37840" y="438120"/>
            <a:ext cx="7248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icrosoft Sans Serif"/>
              </a:rPr>
              <a:t>Детское творчество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pic>
        <p:nvPicPr>
          <p:cNvPr id="110" name="Рисунок 9" descr="http://svetlyachok1969.ucoz.ru/_pu/2/49275954.jpg"/>
          <p:cNvPicPr/>
          <p:nvPr/>
        </p:nvPicPr>
        <p:blipFill>
          <a:blip r:embed="rId1"/>
          <a:stretch/>
        </p:blipFill>
        <p:spPr>
          <a:xfrm>
            <a:off x="220680" y="1413000"/>
            <a:ext cx="4032360" cy="2808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http://sdelala-sama.ru/uploads/posts/2017-03/1489256669_a6dcf77e797f68f62f96163d4d223212.jpg"/>
          <p:cNvPicPr/>
          <p:nvPr/>
        </p:nvPicPr>
        <p:blipFill>
          <a:blip r:embed="rId2"/>
          <a:stretch/>
        </p:blipFill>
        <p:spPr>
          <a:xfrm>
            <a:off x="4859280" y="1521000"/>
            <a:ext cx="3889440" cy="2592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https://ds02.infourok.ru/uploads/ex/0d62/0005c639-cc5ba15b/img20.jpg"/>
          <p:cNvPicPr/>
          <p:nvPr/>
        </p:nvPicPr>
        <p:blipFill>
          <a:blip r:embed="rId3"/>
          <a:stretch/>
        </p:blipFill>
        <p:spPr>
          <a:xfrm>
            <a:off x="220680" y="4378320"/>
            <a:ext cx="3846600" cy="236232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13" descr="http://50ds.ru/img/_3MO102OD6.JPG"/>
          <p:cNvPicPr/>
          <p:nvPr/>
        </p:nvPicPr>
        <p:blipFill>
          <a:blip r:embed="rId4"/>
          <a:stretch/>
        </p:blipFill>
        <p:spPr>
          <a:xfrm>
            <a:off x="4572000" y="4421160"/>
            <a:ext cx="4038480" cy="22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03640" y="272520"/>
            <a:ext cx="4176720" cy="7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icrosoft Sans Serif"/>
              </a:rPr>
              <a:t>      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Microsoft Sans Serif"/>
              </a:rPr>
              <a:t>ИНТЕГРАЦИЯ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574800" y="1125000"/>
            <a:ext cx="51116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Microsoft Sans Serif"/>
              </a:rPr>
              <a:t>С МУЗЫКАЛЬНЫМ РАБОТНИКОМ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Microsoft Sans Serif"/>
              </a:rPr>
              <a:t>С ИНСТРУКТОРОМ ФИЗИЧЕСКОЙ КУЛЬТУРЫ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Microsoft Sans Serif"/>
              </a:rPr>
              <a:t>С ВОСПИТАТЕЛЯМИ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Microsoft Sans Serif"/>
              </a:rPr>
              <a:t>С ЛОГОПЕДОМ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17" name="Рисунок 7" descr="http://www.combook.ru/pictures/10346794.jpg"/>
          <p:cNvPicPr/>
          <p:nvPr/>
        </p:nvPicPr>
        <p:blipFill>
          <a:blip r:embed="rId1"/>
          <a:stretch/>
        </p:blipFill>
        <p:spPr>
          <a:xfrm>
            <a:off x="395280" y="1413000"/>
            <a:ext cx="31687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075520" cy="563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icrosoft Sans Serif"/>
              </a:rPr>
              <a:t>РАБОТА С РОДИТЕЛЯМИ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635280" y="1004400"/>
            <a:ext cx="511200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ЗАДАЧИ ИНФОРМАЦИОННОГО ПЛАНА</a:t>
            </a: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- КОНСУЛЬТИРОВАНИЕ, РЕКОМЕНДАЦИИ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СОВМЕСТНАЯ ДЕЯТЕЛЬНОСТЬ</a:t>
            </a: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 – ИЗГОТОВЛЕНИЕ АТРИБУТОВ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Microsoft Sans Serif"/>
              </a:rPr>
              <a:t>ЗАДАЧИ ОБУЧАЮЩЕГО ПЛАНА</a:t>
            </a: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-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    </a:t>
            </a: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МАСТЕР-КЛАССЫ,СЕМИНАРЫ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20" name="Рисунок 4" descr="http://otvetiki.com/images/stories/0001/parents.gif"/>
          <p:cNvPicPr/>
          <p:nvPr/>
        </p:nvPicPr>
        <p:blipFill>
          <a:blip r:embed="rId1"/>
          <a:stretch/>
        </p:blipFill>
        <p:spPr>
          <a:xfrm>
            <a:off x="179280" y="2516040"/>
            <a:ext cx="2808360" cy="24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7840" y="438120"/>
            <a:ext cx="7248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icrosoft Sans Serif"/>
              </a:rPr>
              <a:t>ЛИТЕРАТУРА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pic>
        <p:nvPicPr>
          <p:cNvPr id="122" name="Объект 3" descr="http://www.combook.ru/imgrab/0024/9785894157948.jpg"/>
          <p:cNvPicPr/>
          <p:nvPr/>
        </p:nvPicPr>
        <p:blipFill>
          <a:blip r:embed="rId1"/>
          <a:stretch/>
        </p:blipFill>
        <p:spPr>
          <a:xfrm>
            <a:off x="3132000" y="1420920"/>
            <a:ext cx="1944720" cy="238104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4" descr="http://ozon-st.cdn.ngenix.net/multimedia/1005623025.jpg"/>
          <p:cNvPicPr/>
          <p:nvPr/>
        </p:nvPicPr>
        <p:blipFill>
          <a:blip r:embed="rId2"/>
          <a:stretch/>
        </p:blipFill>
        <p:spPr>
          <a:xfrm>
            <a:off x="468360" y="1839960"/>
            <a:ext cx="2044800" cy="313524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5" descr="http://900igr.net/up/datai/130362/0008-008-.jpg"/>
          <p:cNvPicPr/>
          <p:nvPr/>
        </p:nvPicPr>
        <p:blipFill>
          <a:blip r:embed="rId3"/>
          <a:stretch/>
        </p:blipFill>
        <p:spPr>
          <a:xfrm>
            <a:off x="5219640" y="1413000"/>
            <a:ext cx="1638360" cy="256860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6" descr="http://bookean.ru.opt-images.1c-bitrix-cdn.ru/upload/iblock/a19/a19f15855d715e5558fec5374cfaed4c.jpg?1411550871133742"/>
          <p:cNvPicPr/>
          <p:nvPr/>
        </p:nvPicPr>
        <p:blipFill>
          <a:blip r:embed="rId4"/>
          <a:stretch/>
        </p:blipFill>
        <p:spPr>
          <a:xfrm>
            <a:off x="7192800" y="1839960"/>
            <a:ext cx="1760760" cy="266076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7" descr="http://static2.insales.ru/images/products/1/7209/2260009/large_Kuklandia_obl.jpg"/>
          <p:cNvPicPr/>
          <p:nvPr/>
        </p:nvPicPr>
        <p:blipFill>
          <a:blip r:embed="rId5"/>
          <a:stretch/>
        </p:blipFill>
        <p:spPr>
          <a:xfrm>
            <a:off x="2843280" y="3981600"/>
            <a:ext cx="1657440" cy="277020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8" descr="http://muz-rukdou.ru/_fr/22/3031643.jpg"/>
          <p:cNvPicPr/>
          <p:nvPr/>
        </p:nvPicPr>
        <p:blipFill>
          <a:blip r:embed="rId6"/>
          <a:stretch/>
        </p:blipFill>
        <p:spPr>
          <a:xfrm>
            <a:off x="5219640" y="4259160"/>
            <a:ext cx="197316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1133640" y="1904760"/>
            <a:ext cx="7759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4d4d"/>
                </a:solidFill>
                <a:latin typeface="Microsoft Sans Serif"/>
              </a:rPr>
              <a:t>Целенаправленная коррекция речи детей с ОНР через адекватную возрасту совместную деятельность и специально организованную систему, </a:t>
            </a:r>
            <a:r>
              <a:rPr b="1" lang="ru-RU" sz="2800" spc="-1" strike="noStrike">
                <a:solidFill>
                  <a:srgbClr val="7030a0"/>
                </a:solidFill>
                <a:latin typeface="Microsoft Sans Serif"/>
              </a:rPr>
              <a:t>включающую организацию театрализованной деятельности-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4d4d"/>
                </a:solidFill>
                <a:latin typeface="Microsoft Sans Serif"/>
              </a:rPr>
              <a:t>позволяют </a:t>
            </a:r>
            <a:r>
              <a:rPr b="1" lang="ru-RU" sz="2800" spc="-1" strike="noStrike">
                <a:solidFill>
                  <a:srgbClr val="7030a0"/>
                </a:solidFill>
                <a:latin typeface="Microsoft Sans Serif"/>
              </a:rPr>
              <a:t>успешно компенсировать речевое недоразвитие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700"/>
              </a:spcBef>
              <a:buClr>
                <a:srgbClr val="7030a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Рисунок 4" descr=""/>
          <p:cNvPicPr/>
          <p:nvPr/>
        </p:nvPicPr>
        <p:blipFill>
          <a:blip r:embed="rId1"/>
          <a:stretch/>
        </p:blipFill>
        <p:spPr>
          <a:xfrm>
            <a:off x="1403280" y="1052640"/>
            <a:ext cx="774072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Microsoft Sans Serif"/>
              </a:rPr>
              <a:t>МАДОУ ДС «СКАЗКА» С П №150 ГОРОДА КРАСНОДАРА</a:t>
            </a:r>
            <a:br>
              <a:rPr sz="2000"/>
            </a:br>
            <a:r>
              <a:rPr b="1" lang="ru-RU" sz="2000" spc="-1" strike="noStrike">
                <a:solidFill>
                  <a:srgbClr val="4d4d4d"/>
                </a:solidFill>
                <a:latin typeface="Microsoft Sans Serif"/>
              </a:rPr>
              <a:t>2017 ГОД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Microsoft Sans Serif"/>
              </a:rPr>
              <a:t>Учитель-логопед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r>
              <a:rPr b="0" lang="ru-RU" sz="2000" spc="-1" strike="noStrike">
                <a:solidFill>
                  <a:srgbClr val="4d4d4d"/>
                </a:solidFill>
                <a:latin typeface="Microsoft Sans Serif"/>
              </a:rPr>
              <a:t>Кузьмицкая Надежда Васильевна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d4d4d"/>
                </a:solidFill>
                <a:latin typeface="Microsoft Sans Serif"/>
              </a:rPr>
              <a:t>ИНТЕРНЕТ РЕСУРСЫ.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d4d4d"/>
                </a:solidFill>
                <a:latin typeface="Microsoft Sans Serif"/>
              </a:rPr>
              <a:t>Источник:</a:t>
            </a:r>
            <a:endParaRPr b="0" lang="en-US" sz="40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059280" y="1125000"/>
            <a:ext cx="56275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Microsoft Sans Serif"/>
              </a:rPr>
              <a:t>Театр </a:t>
            </a:r>
            <a:r>
              <a:rPr b="0" lang="ru-RU" sz="1800" spc="-1" strike="noStrike">
                <a:solidFill>
                  <a:srgbClr val="4d4d4d"/>
                </a:solidFill>
                <a:latin typeface="Microsoft Sans Serif"/>
              </a:rPr>
              <a:t>— один из самых зрелищных и доступных детям видов искусства, так как он, учитывая определенные особенности детей дошкольного возраста </a:t>
            </a:r>
            <a:r>
              <a:rPr b="0" i="1" lang="ru-RU" sz="1800" spc="-1" strike="noStrike">
                <a:solidFill>
                  <a:srgbClr val="4d4d4d"/>
                </a:solidFill>
                <a:latin typeface="Microsoft Sans Serif"/>
              </a:rPr>
              <a:t>(эмоциональность, чувственное сознание, воображение, эмпатию)</a:t>
            </a:r>
            <a:r>
              <a:rPr b="0" lang="ru-RU" sz="1800" spc="-1" strike="noStrike">
                <a:solidFill>
                  <a:srgbClr val="4d4d4d"/>
                </a:solidFill>
                <a:latin typeface="Microsoft Sans Serif"/>
              </a:rPr>
              <a:t>, оказывает сильное развивающее влияние на эмоциональную сферу ребенка.</a:t>
            </a:r>
            <a:endParaRPr b="0" lang="en-US" sz="18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Microsoft Sans Serif"/>
              </a:rPr>
              <a:t>Театрализованные игры </a:t>
            </a:r>
            <a:r>
              <a:rPr b="0" lang="ru-RU" sz="1800" spc="-1" strike="noStrike">
                <a:solidFill>
                  <a:srgbClr val="3a3a3a"/>
                </a:solidFill>
                <a:latin typeface="Microsoft Sans Serif"/>
              </a:rPr>
              <a:t>или</a:t>
            </a:r>
            <a:r>
              <a:rPr b="0" lang="ru-RU" sz="1800" spc="-1" strike="noStrike">
                <a:solidFill>
                  <a:srgbClr val="ff0000"/>
                </a:solidFill>
                <a:latin typeface="Microsoft Sans Serif"/>
              </a:rPr>
              <a:t> </a:t>
            </a:r>
            <a:r>
              <a:rPr b="0" lang="ru-RU" sz="1800" spc="-1" strike="noStrike">
                <a:solidFill>
                  <a:srgbClr val="7030a0"/>
                </a:solidFill>
                <a:latin typeface="Microsoft Sans Serif"/>
              </a:rPr>
              <a:t>игры-драматизации</a:t>
            </a:r>
            <a:r>
              <a:rPr b="0" lang="ru-RU" sz="1800" spc="-1" strike="noStrike">
                <a:solidFill>
                  <a:srgbClr val="4d4d4d"/>
                </a:solidFill>
                <a:latin typeface="Microsoft Sans Serif"/>
              </a:rPr>
              <a:t> способствуют развитию психических процессов и различных качеств детской личности — самостоятельности, инициативности, эмоциональной отзывчивости, воображения. </a:t>
            </a:r>
            <a:endParaRPr b="0" lang="en-US" sz="18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Microsoft Sans Serif"/>
              </a:rPr>
              <a:t>Именно театрализованная деятельность </a:t>
            </a:r>
            <a:r>
              <a:rPr b="0" lang="ru-RU" sz="1800" spc="-1" strike="noStrike">
                <a:solidFill>
                  <a:srgbClr val="7030a0"/>
                </a:solidFill>
                <a:latin typeface="Microsoft Sans Serif"/>
              </a:rPr>
              <a:t>является уникальным средством развития творческих способностей детей</a:t>
            </a:r>
            <a:r>
              <a:rPr b="0" lang="ru-RU" sz="1800" spc="-1" strike="noStrike">
                <a:solidFill>
                  <a:srgbClr val="4d4d4d"/>
                </a:solidFill>
                <a:latin typeface="Microsoft Sans Serif"/>
              </a:rPr>
              <a:t>.  </a:t>
            </a:r>
            <a:endParaRPr b="0" lang="en-US" sz="18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45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87" name="Рисунок 1" descr=""/>
          <p:cNvPicPr/>
          <p:nvPr/>
        </p:nvPicPr>
        <p:blipFill>
          <a:blip r:embed="rId1"/>
          <a:stretch/>
        </p:blipFill>
        <p:spPr>
          <a:xfrm>
            <a:off x="250920" y="2766960"/>
            <a:ext cx="3241440" cy="31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1133640" y="1341000"/>
            <a:ext cx="73152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Microsoft Sans Serif"/>
              </a:rPr>
              <a:t>Драматизация</a:t>
            </a: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 или </a:t>
            </a:r>
            <a:r>
              <a:rPr b="0" lang="ru-RU" sz="2400" spc="-1" strike="noStrike">
                <a:solidFill>
                  <a:srgbClr val="7030a0"/>
                </a:solidFill>
                <a:latin typeface="Microsoft Sans Serif"/>
              </a:rPr>
              <a:t>театральная постановка </a:t>
            </a: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представляет самый частый и распространенный вид детского творчества. 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Microsoft Sans Serif"/>
              </a:rPr>
              <a:t>В.Г. Петрова </a:t>
            </a: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отмечает, что, театрализованная деятельность это форма изживания впечатлений жизни, лежит глубоко в природе детей и находит свое выражение стихийно, независимо от желания взрослых. 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Наибольшая ценность детской театрализованной деятельности заключается в том, что драматизация непосредственно связана с игрой </a:t>
            </a:r>
            <a:r>
              <a:rPr b="0" i="1" lang="ru-RU" sz="2400" spc="-1" strike="noStrike">
                <a:solidFill>
                  <a:srgbClr val="4d4d4d"/>
                </a:solidFill>
                <a:latin typeface="Microsoft Sans Serif"/>
              </a:rPr>
              <a:t>(</a:t>
            </a:r>
            <a:r>
              <a:rPr b="0" i="1" lang="ru-RU" sz="2400" spc="-1" strike="noStrike">
                <a:solidFill>
                  <a:srgbClr val="7030a0"/>
                </a:solidFill>
                <a:latin typeface="Microsoft Sans Serif"/>
              </a:rPr>
              <a:t>Л. С. Выготский, Н.Я. Михайленко</a:t>
            </a:r>
            <a:r>
              <a:rPr b="0" i="1" lang="ru-RU" sz="2400" spc="-1" strike="noStrike">
                <a:solidFill>
                  <a:srgbClr val="4d4d4d"/>
                </a:solidFill>
                <a:latin typeface="Microsoft Sans Serif"/>
              </a:rPr>
              <a:t>)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37840" y="438120"/>
            <a:ext cx="7248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icrosoft Sans Serif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Microsoft Sans Serif"/>
              </a:rPr>
              <a:t>Театрализованные игры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826920" y="1628640"/>
            <a:ext cx="3959280" cy="463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Microsoft Sans Serif"/>
              </a:rPr>
              <a:t>Один из самых эффективных способов коррекционного воздействия на детей </a:t>
            </a:r>
            <a:r>
              <a:rPr b="0" lang="ru-RU" sz="2000" spc="-1" strike="noStrike">
                <a:solidFill>
                  <a:srgbClr val="4d4d4d"/>
                </a:solidFill>
                <a:latin typeface="Microsoft Sans Serif"/>
              </a:rPr>
              <a:t>– </a:t>
            </a:r>
            <a:r>
              <a:rPr b="0" lang="ru-RU" sz="2000" spc="-1" strike="noStrike">
                <a:solidFill>
                  <a:srgbClr val="7030a0"/>
                </a:solidFill>
                <a:latin typeface="Microsoft Sans Serif"/>
              </a:rPr>
              <a:t>логопатов</a:t>
            </a:r>
            <a:r>
              <a:rPr b="0" lang="ru-RU" sz="2000" spc="-1" strike="noStrike">
                <a:solidFill>
                  <a:srgbClr val="4d4d4d"/>
                </a:solidFill>
                <a:latin typeface="Microsoft Sans Serif"/>
              </a:rPr>
              <a:t>, который наиболее полно побуждает ребенка к высказыванию своих мыслей, своего отношения к увиденному, что способствует ускорению введения исправленного звука в повседневную речь ребенка, а также развивает лексический и грамматический строй речи.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91" name="Объект 4" descr="http://sch324.mskobr.ru/images/Theatre/princ_2.png"/>
          <p:cNvPicPr/>
          <p:nvPr/>
        </p:nvPicPr>
        <p:blipFill>
          <a:blip r:embed="rId1"/>
          <a:stretch/>
        </p:blipFill>
        <p:spPr>
          <a:xfrm>
            <a:off x="4932360" y="2276640"/>
            <a:ext cx="420840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18920" y="333360"/>
            <a:ext cx="7248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icrosoft Sans Serif"/>
              </a:rPr>
              <a:t>Задачи решаемые через театрализованную деятельность детей с ОНР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133640" y="19047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d4d4d"/>
                </a:solidFill>
                <a:latin typeface="Microsoft Sans Serif"/>
              </a:rPr>
              <a:t>Совершенствование познавательных процессов;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d4d4d"/>
                </a:solidFill>
                <a:latin typeface="Microsoft Sans Serif"/>
              </a:rPr>
              <a:t>Развитие всех компонентов речевой деятельности;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d4d4d"/>
                </a:solidFill>
                <a:latin typeface="Microsoft Sans Serif"/>
              </a:rPr>
              <a:t>Развитие творческих способностей и творческой самостоятельности.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133640" y="1197000"/>
            <a:ext cx="731520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Microsoft Sans Serif"/>
              </a:rPr>
              <a:t>К </a:t>
            </a:r>
            <a:r>
              <a:rPr b="0" lang="ru-RU" sz="2000" spc="-1" strike="noStrike">
                <a:solidFill>
                  <a:srgbClr val="7030a0"/>
                </a:solidFill>
                <a:latin typeface="Microsoft Sans Serif"/>
              </a:rPr>
              <a:t>режиссерским </a:t>
            </a:r>
            <a:r>
              <a:rPr b="0" lang="ru-RU" sz="2000" spc="-1" strike="noStrike">
                <a:solidFill>
                  <a:srgbClr val="4d4d4d"/>
                </a:solidFill>
                <a:latin typeface="Microsoft Sans Serif"/>
              </a:rPr>
              <a:t>играм относятся: 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Microsoft Sans Serif"/>
              </a:rPr>
              <a:t>настольный театр игрушек и картинок, стендовые игры. 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Microsoft Sans Serif"/>
              </a:rPr>
              <a:t>Здесь ребенок сам создает сценарий, играет роль игрушечного персонажа.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Microsoft Sans Serif"/>
              </a:rPr>
              <a:t>Преобладающими средствами выражения в данном случае выступают интонации и мимика, а пантомимика ограничена, поскольку ребенок действует с неподвижной фигурой или игрушкой. 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Microsoft Sans Serif"/>
              </a:rPr>
              <a:t>Данные игры используются на занятиях при составлении рассказов по картинкам, сериям сюжетных картин, следам демонстрируемого действия. Дети, выступая в роли режиссеров, сочиняют сценарий и затем, используя фигурки настольного театра, его разыгрывают. 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5" name="Прямоугольник 3"/>
          <p:cNvSpPr/>
          <p:nvPr/>
        </p:nvSpPr>
        <p:spPr>
          <a:xfrm>
            <a:off x="1476360" y="404640"/>
            <a:ext cx="71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режиссерские          игры-драматизации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116000" y="1125360"/>
            <a:ext cx="73152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Microsoft Sans Serif"/>
              </a:rPr>
              <a:t>Игры-драматизации</a:t>
            </a:r>
            <a:r>
              <a:rPr b="1" lang="ru-RU" sz="2400" spc="-1" strike="noStrike">
                <a:solidFill>
                  <a:srgbClr val="ff0000"/>
                </a:solidFill>
                <a:latin typeface="Microsoft Sans Serif"/>
              </a:rPr>
              <a:t> </a:t>
            </a:r>
            <a:r>
              <a:rPr b="0" lang="ru-RU" sz="1800" spc="-1" strike="noStrike">
                <a:solidFill>
                  <a:srgbClr val="4d4d4d"/>
                </a:solidFill>
                <a:latin typeface="Microsoft Sans Serif"/>
              </a:rPr>
              <a:t>предполагают произвольное воспроизведение какого-либо сюжета в соответствии со сценарием. </a:t>
            </a:r>
            <a:endParaRPr b="0" lang="en-US" sz="18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Microsoft Sans Serif"/>
              </a:rPr>
              <a:t>Драматизировать - значит разыгрывать в лицах какое-либо литературное произведение, сохраняя последовательность рассказанных в нем эпизодов и передавая характеры персонажей. Поскольку ребенок играет сам, он может использовать все средства выразительности (интонацию, мимику, пантомимику).</a:t>
            </a:r>
            <a:endParaRPr b="0" lang="en-US" sz="18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Microsoft Sans Serif"/>
              </a:rPr>
              <a:t>Данные игры используются при пересказе рассказов и сказок. Здесь дети - артисты. Распределив роли и познакомившись со сценарием, они показывают небольшой спектакль.</a:t>
            </a:r>
            <a:endParaRPr b="0" lang="en-US" sz="18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Microsoft Sans Serif"/>
              </a:rPr>
              <a:t>Дети учатся владеть своим голосом, интонацией, мимикой, четкой артикуляцией, жестами. </a:t>
            </a:r>
            <a:endParaRPr b="0" lang="en-US" sz="18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Объект 3" descr="http://www.maam.ru/upload/blogs/detsad-172492-1397019638.jpg"/>
          <p:cNvPicPr/>
          <p:nvPr/>
        </p:nvPicPr>
        <p:blipFill>
          <a:blip r:embed="rId1"/>
          <a:stretch/>
        </p:blipFill>
        <p:spPr>
          <a:xfrm>
            <a:off x="1187280" y="1066680"/>
            <a:ext cx="4176720" cy="2735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http://ds5ishim.ru/sites/default/files/kartinki/mart/igra.jpg"/>
          <p:cNvPicPr/>
          <p:nvPr/>
        </p:nvPicPr>
        <p:blipFill>
          <a:blip r:embed="rId2"/>
          <a:stretch/>
        </p:blipFill>
        <p:spPr>
          <a:xfrm>
            <a:off x="6456240" y="981000"/>
            <a:ext cx="2371680" cy="33242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http://www.maam.ru/upload/blogs/59630ff24afbc4a4a7520d57fbd88fb2.jpg.jpg"/>
          <p:cNvPicPr/>
          <p:nvPr/>
        </p:nvPicPr>
        <p:blipFill>
          <a:blip r:embed="rId3"/>
          <a:stretch/>
        </p:blipFill>
        <p:spPr>
          <a:xfrm>
            <a:off x="2484360" y="3902040"/>
            <a:ext cx="3911760" cy="2933640"/>
          </a:xfrm>
          <a:prstGeom prst="rect">
            <a:avLst/>
          </a:prstGeom>
          <a:ln w="0">
            <a:noFill/>
          </a:ln>
        </p:spPr>
      </p:pic>
      <p:sp>
        <p:nvSpPr>
          <p:cNvPr id="100" name="Заголовок 1"/>
          <p:cNvSpPr/>
          <p:nvPr/>
        </p:nvSpPr>
        <p:spPr>
          <a:xfrm>
            <a:off x="1438200" y="260280"/>
            <a:ext cx="7248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icrosoft Sans Serif"/>
              </a:rPr>
              <a:t>ИГРЫ-ДРАМАТИЗАЦИИ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22T16:20:55Z</dcterms:created>
  <dc:creator>Юра</dc:creator>
  <dc:description/>
  <dc:language>en-US</dc:language>
  <cp:lastModifiedBy>Roma Gogin</cp:lastModifiedBy>
  <dcterms:modified xsi:type="dcterms:W3CDTF">2018-08-24T15:32:47Z</dcterms:modified>
  <cp:revision>56</cp:revision>
  <dc:subject/>
  <dc:title>Name of presentation</dc:title>
</cp:coreProperties>
</file>