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4.jpeg" ContentType="image/jpeg"/>
  <Override PartName="/ppt/media/image8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2.jpeg" ContentType="image/jpeg"/>
  <Override PartName="/ppt/media/image9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938-D2BA-4305-A1AA-2B7B34BC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C3A-9F49-4B1E-A609-75F7458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F55B0-C429-4A3C-9FE8-7E3A4327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05F4A-AD92-4211-808D-2CEF1DFC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87E2-5EAC-4F49-86D9-F071082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03EB9-642A-41AF-9218-2A0B4AA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EB798-D5FD-4C4F-9C81-FC71797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4716F-FEBB-45AD-9471-D70103B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62728-E218-4BDC-BF18-8D701947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B25A0-09E8-44C6-BD98-D822235F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3139C-29BA-4CFE-8A05-DFFCB010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5B1-D481-4CFC-9C9E-05D173CF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5CF-F38B-4F32-8D6F-A5E5360C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8C1D-28BF-4471-B006-48581ABA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1DEC-DF9E-45CE-88E0-2AA9A81F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22A-EB00-44A3-A109-11420D7F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DB9F-515B-488B-A89E-DF44DCC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5778-50B6-40A8-A5AF-897AB95E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8FC2-127E-4060-81E6-998AC2E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E292-1B44-48F3-A3C4-223BEC80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82A-77D5-4FA7-8FD6-3DA59ED2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2582-C11E-484E-990E-0147589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C4E4-16FF-472E-AC94-A313565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ED99-BBA6-46E6-B7BA-3C9178D7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82B0-28B7-4CA6-B113-D6D7A928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6D20-1D22-4862-859D-4C26031B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6C7F-6B52-44FC-BAAE-A91392F1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B7B5-70FA-4B9F-8276-94CD1E3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2176-D15F-43D1-A22A-89AF21A7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E246-0BBC-487E-A593-5B4F147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7BA6-4931-4398-B98E-591D194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C58-3181-4DD0-A289-9810800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E09A-B80E-4C66-8B27-7B5007BB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53A9D-3844-4571-923E-DDF3930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533E-1AAC-4D05-8879-7536BE0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3CDE-74A4-4D8C-8B61-83F446E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BA87-CF22-4C82-8818-F1537123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0A9D-8817-4C02-BBB6-1CBFD874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063F-BA70-4D58-814D-6AB93C47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07C6-55FF-4B53-9C03-61FFFD08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DF6F-D0D2-47A9-A758-D2523692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1DAF-E3D8-47EE-AB22-54A7134A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B04-B0DF-43F1-AC75-31B7FB9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473C-851D-46DC-9BA4-48DB4390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8DB4-769A-4669-8DAB-21F21554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BFEC-9D3D-4A44-B2F0-B84B3235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AC3F-4E32-4129-9FB0-3887F8A4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94A1B-2E46-41BE-86A2-E095B977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008D-3160-4E15-A6CD-D1DEBB6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55E7-0746-4A21-A711-59E8D80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43B9F-B5AC-4D22-B3BD-8BC1C209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EE389-B3DB-4EB7-8D90-1FBA3A17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CC1C-FB4C-42D7-9426-629F6667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A48-B873-45A7-AE3C-8C354BF3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412D-ECC1-4B45-A579-B3426AA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7297-432E-41BE-9823-1A7E080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A3F76-6FED-463A-9CB7-A9A4300A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57E0-9E56-4987-8659-0CFD45E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9757-7892-4AFA-A462-E27389B7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1F09-43A3-41B2-BDB8-68BB6880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1F39-5BD0-4C27-A3D9-BC894BD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5483-2A91-4155-8EA4-22DA224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AA787-CA72-4B4C-8F77-8C9B30B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0C56-2FFB-470B-906E-0EA222E6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1BB-446B-449E-B1E7-451FB4A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89A3-2219-4C2F-93A8-8FD039A9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CB3A8-6E5B-44C5-877A-463CD13A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0903-410A-4F1D-A4B9-D747C40E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67F3-32F0-4AEB-B1C8-50FCB43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4B3F-4281-4784-8CBF-1CB8E0D0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3B53-E4D7-414A-9102-5BD17215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D21B0-919E-420D-ACCD-17AA22D8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E8974-9210-4B60-B0A7-046CD1C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0215-5A0C-42CC-845F-D07C640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8C0A3-FA5C-4D09-8505-2E61BDC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F51-16CE-46B7-9352-13A4A6C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187B-7FCE-4740-9E37-8CD2453E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1C142-A811-404F-9665-D63CCB0D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B70F8-37B9-4257-AEA1-DF6445FC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6607-97C7-4A5E-9746-2D36C903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696DE-6A0A-42BD-91CB-3B21C14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4E247-AE1A-4370-B473-023959A5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CB2D-B8D7-45F1-8DDC-C16CA101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618FC-23AF-4364-AB60-90A8F109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16BE4-8D3C-42C1-9BEB-5B86191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74BF7-69C3-4105-8DF9-A283EA1F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BE2-425D-4CF0-B256-D429772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18257-AE54-476C-A58A-5BE2891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80D74-4388-4106-A269-502DC8F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153EF-A993-4524-8E24-30A4F9DC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E4A31-246C-47A6-B775-6EA629F3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B109D-0CD1-46E6-A7D3-8ED48F72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1423-F79A-4E1D-9B01-77597909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2B63-8B0D-44BC-9B59-E1B8D4C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4C1A-41CE-4F74-BEAD-A9B261AD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21B14-0EB0-4E7A-BFC3-EC41EEF8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E507E-25D1-4257-84C0-A9EB481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99F-9678-4A9E-A35E-329EE3C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1D2A-75A4-44F9-9267-31195908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8329-12BE-49E7-931C-88D32C1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E38AB-F8F5-4674-9AFA-AA57412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7CCF5-6DED-4205-9D69-9E4432E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D5821-EAE7-4484-87AE-FE47AEB8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45474-39D1-4716-ACA5-18142957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6EAD3-B52C-4322-8760-AB6A4F21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E4D99-1987-481E-BD5E-3628D764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73CA6-83A2-45AA-8403-2D5806D6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70EC5-3DC1-46B4-87F3-76CA6A6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7769-E3BF-4078-976D-A164349AE24B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C0E-39E0-4C03-9919-87A1E1B806E2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8D5-DAFD-47AE-BBF5-24DB6D6375C9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9D69-E3EE-4EE2-B80D-561C96CB1635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80EE-2D7D-47C8-BFC2-EA36D15B4AFE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BC2-E677-4498-8B75-1B991E39C297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E04-95F7-4F2E-9573-AEE4EF5803A2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149-165D-4791-83DF-1E981B814D61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D818-DF23-4ACA-BC99-CAC8AC8A3BDB}" type="slidenum">
              <a:rPr b="0" lang="ru-RU" sz="1200" spc="-1" strike="noStrike">
                <a:solidFill>
                  <a:srgbClr val="919f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356760"/>
            <a:ext cx="79725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9721e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 spd="slow" advTm="14000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334800"/>
            <a:ext cx="8686800" cy="96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24"/>
          <p:cNvPicPr/>
          <p:nvPr/>
        </p:nvPicPr>
        <p:blipFill>
          <a:blip r:embed="rId2"/>
          <a:stretch/>
        </p:blipFill>
        <p:spPr>
          <a:xfrm>
            <a:off x="1000080" y="1571760"/>
            <a:ext cx="7302600" cy="44863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8780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8846a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8846a"/>
              </a:solidFill>
              <a:latin typeface="Franklin Gothic Medium"/>
            </a:endParaRPr>
          </a:p>
        </p:txBody>
      </p:sp>
      <p:pic>
        <p:nvPicPr>
          <p:cNvPr id="440" name="Picture 10" descr="http://upload.wikimedia.org/wikipedia/commons/d/de/Esenin1914.jpg"/>
          <p:cNvPicPr/>
          <p:nvPr/>
        </p:nvPicPr>
        <p:blipFill>
          <a:blip r:embed="rId2"/>
          <a:stretch/>
        </p:blipFill>
        <p:spPr>
          <a:xfrm>
            <a:off x="2017800" y="1500120"/>
            <a:ext cx="5181480" cy="38102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2d050"/>
                </a:solidFill>
                <a:latin typeface="Franklin Gothic Book"/>
              </a:rPr>
              <a:t>«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4357800" y="1214280"/>
            <a:ext cx="364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«Моя лирика жива одной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большой любовью,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юбовью к Родине, матери.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Чувство Родины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сновное в моем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творчестве»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.Есенин. </a:t>
            </a:r>
            <a:br>
              <a:rPr sz="2800"/>
            </a:b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45" name="Picture 5" descr="E:\Documents and Settings\admin\Рабочий стол\ЕСЕНИН\ОСЕНЬ\Константиново - родина Сергея Есенина..jpg"/>
          <p:cNvPicPr/>
          <p:nvPr/>
        </p:nvPicPr>
        <p:blipFill>
          <a:blip r:embed="rId2"/>
          <a:stretch/>
        </p:blipFill>
        <p:spPr>
          <a:xfrm>
            <a:off x="357120" y="1714680"/>
            <a:ext cx="4191120" cy="4414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2503440" y="714240"/>
            <a:ext cx="413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4820"/>
                </a:solidFill>
                <a:latin typeface="Franklin Gothic Demi"/>
              </a:rPr>
              <a:t>Страстный  певец  родного  кра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208080" y="457200"/>
            <a:ext cx="8783640" cy="841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Чтение трудных слов: 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  <a:ea typeface="Arial"/>
              </a:rPr>
              <a:t>Кон-стан-ти-но-во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  <a:ea typeface="Arial"/>
              </a:rPr>
              <a:t>Много - численными 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  <a:ea typeface="Arial"/>
              </a:rPr>
              <a:t>Литературно – общественная жизнь   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 spd="slow" advTm="14000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6" descr=""/>
          <p:cNvPicPr/>
          <p:nvPr/>
        </p:nvPicPr>
        <p:blipFill>
          <a:blip r:embed="rId1"/>
          <a:stretch/>
        </p:blipFill>
        <p:spPr>
          <a:xfrm>
            <a:off x="237960" y="457200"/>
            <a:ext cx="8753760" cy="8413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биографией какого писателя познакомились на уроке?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Что узнали нового о нём?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 spd="slow" advTm="14000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237960" y="457200"/>
            <a:ext cx="8753760" cy="8413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142640"/>
            <a:ext cx="8686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очитать статью о Сергее Есенине на с. 172 -173 учебника;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 желанию (на выбор):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подготовить краткий пересказ «Биография С.Есенина»;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выучить отрывок стихотворения на с. 173 учебника.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 spd="slow" advTm="14000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5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8780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8846a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8846a"/>
              </a:solidFill>
              <a:latin typeface="Franklin Gothic Medium"/>
            </a:endParaRPr>
          </a:p>
        </p:txBody>
      </p:sp>
      <p:pic>
        <p:nvPicPr>
          <p:cNvPr id="456" name="Содержимое 4" descr="7.jpg"/>
          <p:cNvPicPr/>
          <p:nvPr/>
        </p:nvPicPr>
        <p:blipFill>
          <a:blip r:embed="rId2"/>
          <a:stretch/>
        </p:blipFill>
        <p:spPr>
          <a:xfrm>
            <a:off x="4005360" y="185904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&amp;Scy;.&amp;Acy;. &amp;IEcy;&amp;scy;&amp;iecy;&amp;ncy;&amp;icy;&amp;ncy;"/>
          <p:cNvPicPr/>
          <p:nvPr/>
        </p:nvPicPr>
        <p:blipFill>
          <a:blip r:embed="rId3"/>
          <a:stretch/>
        </p:blipFill>
        <p:spPr>
          <a:xfrm>
            <a:off x="1071720" y="1428840"/>
            <a:ext cx="2295360" cy="3890880"/>
          </a:xfrm>
          <a:prstGeom prst="rect">
            <a:avLst/>
          </a:prstGeom>
          <a:ln w="0">
            <a:noFill/>
          </a:ln>
        </p:spPr>
      </p:pic>
      <p:pic>
        <p:nvPicPr>
          <p:cNvPr id="458" name="есенин мы все теперь уходим  понемногу стас михайлов.mp3" descr=""/>
          <p:cNvPicPr/>
          <p:nvPr/>
        </p:nvPicPr>
        <p:blipFill>
          <a:blip r:embed="rId4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56728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356760"/>
            <a:ext cx="79725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9721e"/>
                </a:solidFill>
                <a:latin typeface="Franklin Gothic Medium"/>
              </a:rPr>
              <a:t>Дыхательная  разминка 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571680" y="128592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дох – носом, выдох через 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дох – задержка, выдох через 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вдох, вдох – задержка, выдох через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356760"/>
            <a:ext cx="79725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9721e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 flipV="1" rot="10800000">
            <a:off x="499680" y="1256400"/>
            <a:ext cx="8286840" cy="30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Arial"/>
                <a:ea typeface="Times New Roman"/>
              </a:rPr>
              <a:t>Прочитайте только буквы, и вы узнаете фамилию поэта, с биографией, которого мы познакомимся 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Е2С4Е5Н1И3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0" y="1536840"/>
            <a:ext cx="8308800" cy="23461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85.jpg"/>
          <p:cNvPicPr/>
          <p:nvPr/>
        </p:nvPicPr>
        <p:blipFill>
          <a:blip r:embed="rId2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WordArt 5" descr="Бумажный пакет"/>
          <p:cNvPicPr/>
          <p:nvPr/>
        </p:nvPicPr>
        <p:blipFill>
          <a:blip r:embed="rId3"/>
          <a:stretch/>
        </p:blipFill>
        <p:spPr>
          <a:xfrm>
            <a:off x="0" y="4705200"/>
            <a:ext cx="5364000" cy="8049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5"/>
          <p:cNvSpPr/>
          <p:nvPr/>
        </p:nvSpPr>
        <p:spPr>
          <a:xfrm>
            <a:off x="928800" y="60008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95-19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5357880"/>
            <a:ext cx="8705880" cy="927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r>
              <a:rPr b="0" i="1" lang="ru-RU" sz="1800" spc="-1" strike="noStrike">
                <a:solidFill>
                  <a:srgbClr val="78846a"/>
                </a:solidFill>
                <a:latin typeface="Franklin Gothic Medium"/>
              </a:rPr>
              <a:t> </a:t>
            </a:r>
            <a:endParaRPr b="0" lang="en-US" sz="1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5" name="Picture 5" descr="E:\Documents and Settings\admin\Рабочий стол\ЕСЕНИН\3e8c125a9a31.jpg"/>
          <p:cNvPicPr/>
          <p:nvPr/>
        </p:nvPicPr>
        <p:blipFill>
          <a:blip r:embed="rId2"/>
          <a:stretch/>
        </p:blipFill>
        <p:spPr>
          <a:xfrm>
            <a:off x="428760" y="235728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80800" y="785880"/>
            <a:ext cx="4219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7" name="Picture 6" descr="Комната-горница"/>
          <p:cNvPicPr/>
          <p:nvPr/>
        </p:nvPicPr>
        <p:blipFill>
          <a:blip r:embed="rId3"/>
          <a:stretch/>
        </p:blipFill>
        <p:spPr>
          <a:xfrm>
            <a:off x="4786200" y="1643040"/>
            <a:ext cx="3857760" cy="330696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5429160" y="285840"/>
            <a:ext cx="3214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13840"/>
            <a:ext cx="84852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4820"/>
                </a:solidFill>
                <a:latin typeface="Franklin Gothic Medium"/>
              </a:rPr>
              <a:t>РОДИТЕЛИ СЕРГЕЯ ЕСЕНИНА –</a:t>
            </a:r>
            <a:br>
              <a:rPr sz="2000"/>
            </a:br>
            <a:r>
              <a:rPr b="1" i="1" lang="ru-RU" sz="2000" spc="-1" strike="noStrike">
                <a:solidFill>
                  <a:srgbClr val="184820"/>
                </a:solidFill>
                <a:latin typeface="Franklin Gothic Medium"/>
              </a:rPr>
              <a:t>ТАТЬЯНА ФЕДОРОВНА  И  АЛЕКСАНДР НИКИТИЧ</a:t>
            </a:r>
            <a:endParaRPr b="0" lang="en-US" sz="2000" spc="-1" strike="noStrike">
              <a:solidFill>
                <a:srgbClr val="444d26"/>
              </a:solidFill>
              <a:latin typeface="Franklin Gothic Medium"/>
            </a:endParaRPr>
          </a:p>
        </p:txBody>
      </p:sp>
      <p:pic>
        <p:nvPicPr>
          <p:cNvPr id="420" name="Picture 4" descr="родители Александр Никитич и Татьяна Федоровна"/>
          <p:cNvPicPr/>
          <p:nvPr/>
        </p:nvPicPr>
        <p:blipFill>
          <a:blip r:embed="rId1"/>
          <a:stretch/>
        </p:blipFill>
        <p:spPr>
          <a:xfrm>
            <a:off x="928800" y="1571760"/>
            <a:ext cx="3001680" cy="4714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E:\Documents and Settings\admin\Рабочий стол\ЕСЕНИН\ОСЕНЬ\fm_esenin.jpg"/>
          <p:cNvPicPr/>
          <p:nvPr/>
        </p:nvPicPr>
        <p:blipFill>
          <a:blip r:embed="rId2"/>
          <a:stretch/>
        </p:blipFill>
        <p:spPr>
          <a:xfrm>
            <a:off x="4929120" y="1571760"/>
            <a:ext cx="3243240" cy="46767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428400"/>
            <a:ext cx="8686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4820"/>
                </a:solidFill>
                <a:latin typeface="Franklin Gothic Medium"/>
              </a:rPr>
              <a:t>СЕРГЕЙ  И СЕСТРЫ  КАТЯ  И  ШУРА</a:t>
            </a:r>
            <a:br>
              <a:rPr sz="2000"/>
            </a:br>
            <a:endParaRPr b="0" lang="en-US" sz="2000" spc="-1" strike="noStrike">
              <a:solidFill>
                <a:srgbClr val="444d26"/>
              </a:solidFill>
              <a:latin typeface="Franklin Gothic Medium"/>
            </a:endParaRPr>
          </a:p>
        </p:txBody>
      </p:sp>
      <p:pic>
        <p:nvPicPr>
          <p:cNvPr id="423" name="Picture 4" descr="Есенин с сестрами Катей и Шурой"/>
          <p:cNvPicPr/>
          <p:nvPr/>
        </p:nvPicPr>
        <p:blipFill>
          <a:blip r:embed="rId1"/>
          <a:stretch/>
        </p:blipFill>
        <p:spPr>
          <a:xfrm>
            <a:off x="714240" y="1714680"/>
            <a:ext cx="3495960" cy="4545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5143680" y="1785960"/>
            <a:ext cx="2857320" cy="44798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428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4820"/>
                </a:solidFill>
                <a:latin typeface="Franklin Gothic Medium"/>
              </a:rPr>
              <a:t>ДЕД СЕРГЕЯ ЕСЕНИНА - ФЕДОР АНДРЕЕВИЧ</a:t>
            </a:r>
            <a:br>
              <a:rPr sz="2000"/>
            </a:br>
            <a:endParaRPr b="0" lang="en-US" sz="20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ергей Есенин ребенком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жил в семье деда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реди первых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печатлений Есенина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уховные стихи,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спевавшиеся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транствующими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лепцами, и бабушкины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казки.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27" name="Picture 5" descr="el1-436-"/>
          <p:cNvPicPr/>
          <p:nvPr/>
        </p:nvPicPr>
        <p:blipFill>
          <a:blip r:embed="rId1"/>
          <a:stretch/>
        </p:blipFill>
        <p:spPr>
          <a:xfrm>
            <a:off x="1025640" y="1600200"/>
            <a:ext cx="283212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5413320"/>
            <a:ext cx="8613720" cy="8780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8846a"/>
              </a:solidFill>
              <a:latin typeface="Franklin Gothic Medium"/>
            </a:endParaRPr>
          </a:p>
        </p:txBody>
      </p:sp>
      <p:pic>
        <p:nvPicPr>
          <p:cNvPr id="431" name="Picture 4" descr="Классная комната"/>
          <p:cNvPicPr/>
          <p:nvPr/>
        </p:nvPicPr>
        <p:blipFill>
          <a:blip r:embed="rId2"/>
          <a:stretch/>
        </p:blipFill>
        <p:spPr>
          <a:xfrm>
            <a:off x="5072040" y="26431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280800" y="1316160"/>
            <a:ext cx="4005000" cy="3827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Земское училище"/>
          <p:cNvPicPr/>
          <p:nvPr/>
        </p:nvPicPr>
        <p:blipFill>
          <a:blip r:embed="rId4"/>
          <a:stretch/>
        </p:blipFill>
        <p:spPr>
          <a:xfrm>
            <a:off x="357120" y="357120"/>
            <a:ext cx="4500720" cy="2590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0:42:03Z</dcterms:created>
  <dc:creator>N1</dc:creator>
  <dc:description/>
  <dc:language>en-US</dc:language>
  <cp:lastModifiedBy>Я</cp:lastModifiedBy>
  <dcterms:modified xsi:type="dcterms:W3CDTF">2015-03-13T03:17:21Z</dcterms:modified>
  <cp:revision>100</cp:revision>
  <dc:subject/>
  <dc:title>СЕРГЕЙ ЕСЕНИН</dc:title>
</cp:coreProperties>
</file>